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10C4-A792-4EF7-B95A-A086F6F17A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B8F4-C0EB-417D-B7A1-A3C9887117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919B-26F9-4BB4-8CD6-44CF6B7E0E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Highlighted target for 1 b: </a:t>
            </a: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Development of efficient multimodal terminals at Danube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river ports and dry ports</a:t>
            </a: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 to connect inland waterways with rail and road transport by 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ackground: No transnational approach in Danube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No common strategy and plan for intermodal transport in Danube region and bey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No investment plan for investors to mobilize the long-term financing needed in Danube reg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99"/>
                </a:solidFill>
                <a:latin typeface="Arial"/>
              </a:rPr>
              <a:t>Multimodal nodes need to play a more significant role not only in terms of accessibility but as optimal places for concentrating logistic activities  reducing logistic c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egal and institutional package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Review railway refo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Recommend appropriate and regionally institutional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Prepare model concession or other agreements for P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arket research packag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arry out market research (demand and supply chain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Prepare demand forecasts, using transnational trade flows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Hold seminars, workshops and arrange study tou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Prepare a detailed intermodal development strategy and Action Plan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frastructure project pack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Identify locations for establishing a network of intermodal terminals/ logistic centres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Prepare first phase investment projects, ensure projects are embedded in Danube reg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Establish Intermodal Development Fund to kick start implementation of projec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2F96-DFD6-406C-9A0D-9C5A98283D7A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Highlighted target for 1 b: </a:t>
            </a: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Development of efficient multimodal terminals at Danube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river ports and dry ports</a:t>
            </a: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 to connect inland waterways with rail and road transport by 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ackground: No transnational approach in Danube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No common strategy and plan for intermodal transport in Danube region and bey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No investment plan for investors to mobilize the long-term financing needed in Danube reg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99"/>
                </a:solidFill>
                <a:latin typeface="Arial"/>
              </a:rPr>
              <a:t>Multimodal nodes need to play a more significant role not only in terms of accessibility but as optimal places for concentrating logistic activities  reducing logistic c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egal and institutional package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Review railway refo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Recommend appropriate and regionally institutional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Prepare model concession or other agreements for P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arket research packag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arry out market research (demand and supply chain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Prepare demand forecasts, using transnational trade flows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Hold seminars, workshops and arrange study tou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Prepare a detailed intermodal development strategy and Action Plan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frastructure project pack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Identify locations for establishing a network of intermodal terminals/ logistic centres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Prepare first phase investment projects, ensure projects are embedded in Danube reg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Establish Intermodal Development Fund to kick start implementation of projec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7F5C-745E-4A36-9C83-392B078927D1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42F3-C24A-4E27-B505-F757B2D1C936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E0BA-9E1B-441A-8347-29AECF0F0300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7B1F-C037-4DE9-A185-9248E0E78BFA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A1F9-7488-44EF-90BF-CB20FB46AD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CA1F-B116-4AEF-A8AA-270432C177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21EA-243A-4AF6-828A-D6AE8CAEB4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9600-D143-4723-88E2-FFDD1E591F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03F1-122C-46BD-B06E-77627D92F8D9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229680" y="4714560"/>
            <a:ext cx="6264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4117-1B4B-44D3-A064-369F166675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229680" y="4714560"/>
            <a:ext cx="6264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1E9E-6217-42C4-B29B-D455A16442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29680" y="4714560"/>
            <a:ext cx="6264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76F1-A354-487D-906F-274B469667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29680" y="4714560"/>
            <a:ext cx="6264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C68B-F7D1-4784-BCB8-C3F81D238F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51CF-7D9B-40E6-875A-4371E35AD5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09A8-0DE5-4000-B7B0-536425A5AE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4504-F1DE-4506-9E53-46E666AFDA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49B4-202A-4E7A-8D00-B4457D358F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3532-3061-4309-BA51-3305BCB0D06A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B0F0-1F5D-4C6F-BD73-D6590EE5D0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090B-459B-4290-AF33-AFFD70497C25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9BD-B467-45DC-9D37-5DF33738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1407-5DB0-493D-B50A-8EF0B31D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D15-FC6F-4AD5-BC83-57D0281B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291-32B0-470B-A383-20EAC661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350-A0A9-487E-8A5A-452B4F10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DA4-B8C1-4847-9EC6-61711CF2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CE2-B37C-487F-9CAB-6F090D57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CD1-9064-42FE-90AE-BF88FC8C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A27-75E3-4AAC-8726-A89FC371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DB1-65EB-4EB7-8CB1-94CF5442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0C6-02CA-4736-9CB8-4DCB9CB9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C01-5A28-4F79-8B6F-A885FBA9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918F-E61C-4078-8465-C34B416CE99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ivana.lazic@interact-eu.net" TargetMode="External"/><Relationship Id="rId2" Type="http://schemas.openxmlformats.org/officeDocument/2006/relationships/hyperlink" Target="mailto:katrin.stockhammer@interact-eu.net" TargetMode="External"/><Relationship Id="rId3" Type="http://schemas.openxmlformats.org/officeDocument/2006/relationships/hyperlink" Target="http://www.interact-eu.net/" TargetMode="External"/><Relationship Id="rId4" Type="http://schemas.openxmlformats.org/officeDocument/2006/relationships/hyperlink" Target="http://www.danube-region.eu/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4" descr="Sample X.jpg"/>
          <p:cNvPicPr/>
          <p:nvPr/>
        </p:nvPicPr>
        <p:blipFill>
          <a:blip r:embed="rId1"/>
          <a:stretch/>
        </p:blipFill>
        <p:spPr>
          <a:xfrm>
            <a:off x="0" y="4089240"/>
            <a:ext cx="9144000" cy="2768760"/>
          </a:xfrm>
          <a:prstGeom prst="rect">
            <a:avLst/>
          </a:prstGeom>
          <a:ln w="0">
            <a:noFill/>
          </a:ln>
        </p:spPr>
      </p:pic>
      <p:pic>
        <p:nvPicPr>
          <p:cNvPr id="125" name="Grafik 3" descr=""/>
          <p:cNvPicPr/>
          <p:nvPr/>
        </p:nvPicPr>
        <p:blipFill>
          <a:blip r:embed="rId2"/>
          <a:stretch/>
        </p:blipFill>
        <p:spPr>
          <a:xfrm>
            <a:off x="5416560" y="46080"/>
            <a:ext cx="3692520" cy="1511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3789000"/>
            <a:ext cx="8564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1919"/>
                </a:solidFill>
                <a:latin typeface="Trebuchet MS"/>
                <a:ea typeface="ＭＳ Ｐゴシック"/>
              </a:rPr>
              <a:t>3</a:t>
            </a:r>
            <a:r>
              <a:rPr b="0" lang="en-US" sz="3600" spc="-1" strike="noStrike" baseline="30000">
                <a:solidFill>
                  <a:srgbClr val="191919"/>
                </a:solidFill>
                <a:latin typeface="Trebuchet MS"/>
                <a:ea typeface="ＭＳ Ｐゴシック"/>
              </a:rPr>
              <a:t>rd</a:t>
            </a:r>
            <a:r>
              <a:rPr b="0" lang="en-US" sz="3600" spc="-1" strike="noStrike">
                <a:solidFill>
                  <a:srgbClr val="191919"/>
                </a:solidFill>
                <a:latin typeface="Trebuchet MS"/>
                <a:ea typeface="ＭＳ Ｐゴシック"/>
              </a:rPr>
              <a:t> Steering Group Meeting of PA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17" descr="swoosh2.jpg"/>
          <p:cNvPicPr/>
          <p:nvPr/>
        </p:nvPicPr>
        <p:blipFill>
          <a:blip r:embed="rId3"/>
          <a:stretch/>
        </p:blipFill>
        <p:spPr>
          <a:xfrm>
            <a:off x="3935520" y="1628640"/>
            <a:ext cx="5208480" cy="152640"/>
          </a:xfrm>
          <a:prstGeom prst="rect">
            <a:avLst/>
          </a:prstGeom>
          <a:ln w="0">
            <a:noFill/>
          </a:ln>
        </p:spPr>
      </p:pic>
      <p:sp>
        <p:nvSpPr>
          <p:cNvPr id="128" name="Titel 1"/>
          <p:cNvSpPr/>
          <p:nvPr/>
        </p:nvSpPr>
        <p:spPr>
          <a:xfrm>
            <a:off x="297000" y="2238480"/>
            <a:ext cx="866772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1919"/>
                </a:solidFill>
                <a:latin typeface="Trebuchet MS"/>
                <a:ea typeface="ＭＳ Ｐゴシック"/>
              </a:rPr>
              <a:t>What did the Strategy do for us and what can we do for the Strate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platzhalter 3"/>
          <p:cNvSpPr/>
          <p:nvPr/>
        </p:nvSpPr>
        <p:spPr>
          <a:xfrm>
            <a:off x="2055960" y="5535720"/>
            <a:ext cx="6548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5 December 2012</a:t>
            </a:r>
            <a:r>
              <a:rPr b="0" lang="de-DE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 |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 Vie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2411280" y="49849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Ivana Lazic, INTERACT Point Vi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1599840"/>
            <a:ext cx="83628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nstruc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f two larg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ydraulic and environmental engineering laboratori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one in the upper/middle part of the Danube and one in the lower pa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Joint river engineering simulation tool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to be used by Danube count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struction and operation of a boat with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iving shaft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r the whole Danu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stablishmen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f a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f existing and extended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nube River Research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14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D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18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Benefits of the EUS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395280" y="1484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c9ae12"/>
                </a:solidFill>
                <a:uFillTx/>
                <a:latin typeface="Trebuchet MS"/>
              </a:rPr>
              <a:t>Benefit No 4</a:t>
            </a:r>
            <a:r>
              <a:rPr b="0" lang="de-DE" sz="2800" spc="-1" strike="noStrike">
                <a:solidFill>
                  <a:srgbClr val="c9ae12"/>
                </a:solidFill>
                <a:latin typeface="Trebuchet MS"/>
              </a:rPr>
              <a:t>: Strategy leads to common sectoral strategies and plans for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feld 2"/>
          <p:cNvSpPr/>
          <p:nvPr/>
        </p:nvSpPr>
        <p:spPr>
          <a:xfrm>
            <a:off x="395280" y="2565360"/>
            <a:ext cx="864072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rebuchet MS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The Danube Region Intermodal Strategy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(DRIS Projec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 u="sng">
                <a:solidFill>
                  <a:srgbClr val="000000"/>
                </a:solidFill>
                <a:uFillTx/>
                <a:latin typeface="Trebuchet MS"/>
              </a:rPr>
              <a:t>Goal</a:t>
            </a:r>
            <a:r>
              <a:rPr b="0" lang="de-AT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develop intermodal development strategy; implementation of practical intermodal solutions that will service the logistics chain; contribute to institutional capacity building and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driving forc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Developed by the SG of PA 1b (and in cooperation with PA 1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24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DRIS Mai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457200" y="1600200"/>
            <a:ext cx="85075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egal and institutional packag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view railway re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commend appropriate and regionally institutional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repare model concession or other agreements for P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arket research packag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arry out market research (demand and supply chai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repare demand forecasts, using transnational trade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old seminars, workshops and arrange study t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repare a detailed intermodal development strategy and Ac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frastructure project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dentify locations for establishing a network of intermodal terminals/ logistic cen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repare first phase investment projects, ensure projects are embedded in Danube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stablish Intermodal Development Fund to kick start implementation of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29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Benefits of the EUS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"/>
          <p:cNvSpPr/>
          <p:nvPr/>
        </p:nvSpPr>
        <p:spPr>
          <a:xfrm>
            <a:off x="395280" y="14842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c9ae12"/>
                </a:solidFill>
                <a:uFillTx/>
                <a:latin typeface="Trebuchet MS"/>
              </a:rPr>
              <a:t>Benefit No 5</a:t>
            </a:r>
            <a:r>
              <a:rPr b="0" lang="de-DE" sz="2800" spc="-1" strike="noStrike">
                <a:solidFill>
                  <a:srgbClr val="c9ae12"/>
                </a:solidFill>
                <a:latin typeface="Trebuchet MS"/>
              </a:rPr>
              <a:t>: Local initiatives are tackled at the transnat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68360" y="2565360"/>
            <a:ext cx="8424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mpowering Young People - Connecting Eur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Develop and implement a wide range of innovative projects between schools and external partners throughout the Danube reg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rliament decision recognising the n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pport by PAC 9 (People and skills; Austria and Sloven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35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feld 7"/>
          <p:cNvSpPr/>
          <p:nvPr/>
        </p:nvSpPr>
        <p:spPr>
          <a:xfrm>
            <a:off x="-3636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www.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GB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mpoweringyoungpeopl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9ae12"/>
                </a:solidFill>
                <a:latin typeface="Trebuchet MS"/>
              </a:rPr>
              <a:t>Empowering Young People - Connecting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2"/>
          <a:srcRect l="20587" t="32173" r="20898" b="6238"/>
          <a:stretch/>
        </p:blipFill>
        <p:spPr>
          <a:xfrm>
            <a:off x="900000" y="1413000"/>
            <a:ext cx="777564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40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Benefits of the EUS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"/>
          <p:cNvSpPr/>
          <p:nvPr/>
        </p:nvSpPr>
        <p:spPr>
          <a:xfrm>
            <a:off x="395280" y="1484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c9ae12"/>
                </a:solidFill>
                <a:uFillTx/>
                <a:latin typeface="Trebuchet MS"/>
              </a:rPr>
              <a:t>Benefit No 6</a:t>
            </a:r>
            <a:r>
              <a:rPr b="0" lang="de-DE" sz="2800" spc="-1" strike="noStrike">
                <a:solidFill>
                  <a:srgbClr val="c9ae12"/>
                </a:solidFill>
                <a:latin typeface="Trebuchet MS"/>
              </a:rPr>
              <a:t>: People started ta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924360" y="2165040"/>
            <a:ext cx="46800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nube Finance Dialog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A Series of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dialogues between private and public project promoters in the Danube Region and their potential financers (Vienna, Serbia, Romania.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lemented by PAC 10 (Vienna region and Slove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539640" y="2090880"/>
            <a:ext cx="30243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395280" y="1684440"/>
            <a:ext cx="828036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Many projects are still in the conception/preparation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lex funding landscapes (e.g., partially different rules for ERDF and IPA and ENPI programm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mall projects face difficulties finding an appropriate funding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Lack of technical project preparation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e-financing and co-financing has become increasingly difficult due to the economic cri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48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9ae12"/>
                </a:solidFill>
                <a:latin typeface="Trebuchet MS"/>
              </a:rPr>
              <a:t>Challenges – Financing of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7"/>
          <p:cNvSpPr/>
          <p:nvPr/>
        </p:nvSpPr>
        <p:spPr>
          <a:xfrm>
            <a:off x="684360" y="5591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e also: Analysis of needs for financial instruments in the EU Strategy for the Danube Region (EUSD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Metis GmbH, 20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395280" y="16844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eting the objectives will strongly depend on the design of the EU funding schemes for the 2014 – 2020 programming perio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53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9ae12"/>
                </a:solidFill>
                <a:latin typeface="Trebuchet MS"/>
              </a:rPr>
              <a:t>Challenges – Financing of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Diagram 10" descr=""/>
          <p:cNvPicPr/>
          <p:nvPr/>
        </p:nvPicPr>
        <p:blipFill>
          <a:blip r:embed="rId2"/>
          <a:stretch/>
        </p:blipFill>
        <p:spPr>
          <a:xfrm>
            <a:off x="560520" y="2786040"/>
            <a:ext cx="8412120" cy="3816360"/>
          </a:xfrm>
          <a:prstGeom prst="rect">
            <a:avLst/>
          </a:prstGeom>
          <a:ln w="0">
            <a:noFill/>
          </a:ln>
        </p:spPr>
      </p:pic>
      <p:sp>
        <p:nvSpPr>
          <p:cNvPr id="355" name="Freeform 11"/>
          <p:cNvSpPr/>
          <p:nvPr/>
        </p:nvSpPr>
        <p:spPr>
          <a:xfrm>
            <a:off x="3203640" y="4076640"/>
            <a:ext cx="2160360" cy="936720"/>
          </a:xfrm>
          <a:custGeom>
            <a:avLst/>
            <a:gdLst/>
            <a:ahLst/>
            <a:rect l="l" t="t" r="r" b="b"/>
            <a:pathLst>
              <a:path w="3018971" h="1349828">
                <a:moveTo>
                  <a:pt x="0" y="1349828"/>
                </a:moveTo>
                <a:cubicBezTo>
                  <a:pt x="459619" y="1084942"/>
                  <a:pt x="919238" y="820056"/>
                  <a:pt x="1422400" y="595085"/>
                </a:cubicBezTo>
                <a:cubicBezTo>
                  <a:pt x="1925562" y="370114"/>
                  <a:pt x="3018971" y="0"/>
                  <a:pt x="3018971" y="0"/>
                </a:cubicBezTo>
                <a:lnTo>
                  <a:pt x="3018971" y="0"/>
                </a:lnTo>
              </a:path>
            </a:pathLst>
          </a:custGeom>
          <a:noFill/>
          <a:ln w="1015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"/>
          <p:cNvSpPr/>
          <p:nvPr/>
        </p:nvSpPr>
        <p:spPr>
          <a:xfrm>
            <a:off x="5289480" y="5373720"/>
            <a:ext cx="302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Programming 2014+ ETC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468360" y="1657440"/>
            <a:ext cx="8280360" cy="54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Political commitment needs to be translated into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ctions need to be coordinated and carried out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rtially unsatisfactory participation in PA Steering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volving policy makers and stakeholders in all countries as well as the operational level – wait and see at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e coordination between Priority areas is need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ross-sectoral cooperations between PACs has started but needs to be further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volving European Commission D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inking to regional ERDF program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60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9ae12"/>
                </a:solidFill>
                <a:latin typeface="Trebuchet MS"/>
              </a:rPr>
              <a:t>Challenges – Communication and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468360" y="1860480"/>
            <a:ext cx="82803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We need to be able to measure and communicate the success of the EUSDR in the mid-term. Do targets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What processes have been started (cooperation of policy makers across borders, new cooperation projects, clustering of existing projects/ initiatives, reinforcement of existing networks, etc.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How to estimate the value of this in relation to the baseline (ie without EUSDR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64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9ae12"/>
                </a:solidFill>
                <a:latin typeface="Trebuchet MS"/>
              </a:rPr>
              <a:t>Challenges – Measuring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32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420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are benefits of the EUSD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are some concrete projec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rebuchet MS"/>
              </a:rPr>
              <a:t>What challenges are still t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feld 1"/>
          <p:cNvSpPr/>
          <p:nvPr/>
        </p:nvSpPr>
        <p:spPr>
          <a:xfrm>
            <a:off x="378000" y="1890720"/>
            <a:ext cx="837072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are major funding sources in the EUSD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ow do you get involved in programming of O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ow do you approach regional programmes and other funding sourc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ow can we best learn from other Strategy? – Joint EUSBSR – EUSDR event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rebuchet MS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quarter of 2013. Key topic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68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9ae12"/>
                </a:solidFill>
                <a:latin typeface="Trebuchet MS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71" name="Rechteck 7"/>
          <p:cNvSpPr/>
          <p:nvPr/>
        </p:nvSpPr>
        <p:spPr>
          <a:xfrm>
            <a:off x="168120" y="950760"/>
            <a:ext cx="86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2014+ Territorial Cooperation program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"/>
          <p:cNvSpPr/>
          <p:nvPr/>
        </p:nvSpPr>
        <p:spPr>
          <a:xfrm>
            <a:off x="299880" y="2276640"/>
            <a:ext cx="85694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strengthening </a:t>
            </a:r>
            <a:r>
              <a:rPr b="0" lang="en-GB" sz="2200" spc="-1" strike="noStrike">
                <a:solidFill>
                  <a:srgbClr val="c9ae12"/>
                </a:solidFill>
                <a:latin typeface="Trebuchet MS"/>
              </a:rPr>
              <a:t>research, technological development and innovation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enhancing access to, and use and quality of, information and </a:t>
            </a:r>
            <a:r>
              <a:rPr b="0" lang="en-GB" sz="2200" spc="-1" strike="noStrike">
                <a:solidFill>
                  <a:srgbClr val="c9ae12"/>
                </a:solidFill>
                <a:latin typeface="Trebuchet MS"/>
              </a:rPr>
              <a:t>communication technologies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enhancing the </a:t>
            </a:r>
            <a:r>
              <a:rPr b="0" lang="en-GB" sz="2200" spc="-1" strike="noStrike">
                <a:solidFill>
                  <a:srgbClr val="c9ae12"/>
                </a:solidFill>
                <a:latin typeface="Trebuchet MS"/>
              </a:rPr>
              <a:t>competitiveness of small and medium-sized enterprises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, the agricultural sector (for the EAFRD) and the fisheries and aquaculture sector (for the EMFF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supporting the shift towards a </a:t>
            </a:r>
            <a:r>
              <a:rPr b="0" lang="en-GB" sz="2200" spc="-1" strike="noStrike">
                <a:solidFill>
                  <a:srgbClr val="c9ae12"/>
                </a:solidFill>
                <a:latin typeface="Trebuchet MS"/>
              </a:rPr>
              <a:t>low-carbon economy 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in all sector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promoting </a:t>
            </a:r>
            <a:r>
              <a:rPr b="0" lang="en-GB" sz="2200" spc="-1" strike="noStrike">
                <a:solidFill>
                  <a:srgbClr val="c9ae12"/>
                </a:solidFill>
                <a:latin typeface="Trebuchet MS"/>
              </a:rPr>
              <a:t>climate change adaptation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, risk prevention and managemen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feld 1"/>
          <p:cNvSpPr/>
          <p:nvPr/>
        </p:nvSpPr>
        <p:spPr>
          <a:xfrm>
            <a:off x="299880" y="1557360"/>
            <a:ext cx="815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9ae12"/>
                </a:solidFill>
                <a:latin typeface="Trebuchet MS"/>
              </a:rPr>
              <a:t>Proposed Thematic Objectives: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76" name="Rechteck 7"/>
          <p:cNvSpPr/>
          <p:nvPr/>
        </p:nvSpPr>
        <p:spPr>
          <a:xfrm>
            <a:off x="168120" y="351000"/>
            <a:ext cx="56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2014+ Territorial Cooperation programmes?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"/>
          <p:cNvSpPr/>
          <p:nvPr/>
        </p:nvSpPr>
        <p:spPr>
          <a:xfrm>
            <a:off x="314280" y="1916280"/>
            <a:ext cx="856944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9ae12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c9ae12"/>
                </a:solidFill>
                <a:latin typeface="Trebuchet MS"/>
              </a:rPr>
              <a:t>protecting the environment 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and promoting </a:t>
            </a:r>
            <a:r>
              <a:rPr b="0" lang="en-GB" sz="2100" spc="-1" strike="noStrike">
                <a:solidFill>
                  <a:srgbClr val="c9ae12"/>
                </a:solidFill>
                <a:latin typeface="Trebuchet MS"/>
              </a:rPr>
              <a:t>resource efficiency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promoting </a:t>
            </a:r>
            <a:r>
              <a:rPr b="0" lang="en-GB" sz="2100" spc="-1" strike="noStrike">
                <a:solidFill>
                  <a:srgbClr val="c9ae12"/>
                </a:solidFill>
                <a:latin typeface="Trebuchet MS"/>
              </a:rPr>
              <a:t>sustainable transport 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and removing bottlenecks in key network infrastructur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promoting </a:t>
            </a:r>
            <a:r>
              <a:rPr b="0" lang="en-GB" sz="2100" spc="-1" strike="noStrike">
                <a:solidFill>
                  <a:srgbClr val="c9ae12"/>
                </a:solidFill>
                <a:latin typeface="Trebuchet MS"/>
              </a:rPr>
              <a:t>employment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 and supporting </a:t>
            </a:r>
            <a:r>
              <a:rPr b="0" lang="en-GB" sz="2100" spc="-1" strike="noStrike">
                <a:solidFill>
                  <a:srgbClr val="c9ae12"/>
                </a:solidFill>
                <a:latin typeface="Trebuchet MS"/>
              </a:rPr>
              <a:t>labour</a:t>
            </a:r>
            <a:r>
              <a:rPr b="0" lang="en-GB" sz="2100" spc="-1" strike="noStrike">
                <a:solidFill>
                  <a:srgbClr val="e50083"/>
                </a:solidFill>
                <a:latin typeface="Trebuchet MS"/>
              </a:rPr>
              <a:t> </a:t>
            </a:r>
            <a:r>
              <a:rPr b="0" lang="en-GB" sz="2100" spc="-1" strike="noStrike">
                <a:solidFill>
                  <a:srgbClr val="c9ae12"/>
                </a:solidFill>
                <a:latin typeface="Trebuchet MS"/>
              </a:rPr>
              <a:t>mobility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promoting </a:t>
            </a:r>
            <a:r>
              <a:rPr b="0" lang="en-GB" sz="2100" spc="-1" strike="noStrike">
                <a:solidFill>
                  <a:srgbClr val="c9ae12"/>
                </a:solidFill>
                <a:latin typeface="Trebuchet MS"/>
              </a:rPr>
              <a:t>social</a:t>
            </a:r>
            <a:r>
              <a:rPr b="0" lang="en-GB" sz="2100" spc="-1" strike="noStrike">
                <a:solidFill>
                  <a:srgbClr val="e50083"/>
                </a:solidFill>
                <a:latin typeface="Trebuchet MS"/>
              </a:rPr>
              <a:t> </a:t>
            </a:r>
            <a:r>
              <a:rPr b="0" lang="en-GB" sz="2100" spc="-1" strike="noStrike">
                <a:solidFill>
                  <a:srgbClr val="c9ae12"/>
                </a:solidFill>
                <a:latin typeface="Trebuchet MS"/>
              </a:rPr>
              <a:t>inclusion</a:t>
            </a:r>
            <a:r>
              <a:rPr b="0" lang="en-GB" sz="2100" spc="-1" strike="noStrike">
                <a:solidFill>
                  <a:srgbClr val="e50083"/>
                </a:solidFill>
                <a:latin typeface="Trebuchet MS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and combating poverty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investing in </a:t>
            </a:r>
            <a:r>
              <a:rPr b="0" lang="en-GB" sz="2100" spc="-1" strike="noStrike">
                <a:solidFill>
                  <a:srgbClr val="c9ae12"/>
                </a:solidFill>
                <a:latin typeface="Trebuchet MS"/>
              </a:rPr>
              <a:t>education, skills and lifelong learning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enhancing </a:t>
            </a:r>
            <a:r>
              <a:rPr b="0" lang="en-GB" sz="2100" spc="-1" strike="noStrike">
                <a:solidFill>
                  <a:srgbClr val="c9ae12"/>
                </a:solidFill>
                <a:latin typeface="Trebuchet MS"/>
              </a:rPr>
              <a:t>institutional capacity 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and an efficient public administr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80" name="Rechteck 7"/>
          <p:cNvSpPr/>
          <p:nvPr/>
        </p:nvSpPr>
        <p:spPr>
          <a:xfrm>
            <a:off x="187200" y="966960"/>
            <a:ext cx="86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2014+ Territorial Cooperation programm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"/>
          <p:cNvSpPr/>
          <p:nvPr/>
        </p:nvSpPr>
        <p:spPr>
          <a:xfrm>
            <a:off x="324000" y="1989000"/>
            <a:ext cx="856908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matic objectives will be </a:t>
            </a:r>
            <a:r>
              <a:rPr b="0" lang="en-GB" sz="2400" spc="-1" strike="noStrike">
                <a:solidFill>
                  <a:srgbClr val="c9ae12"/>
                </a:solidFill>
                <a:latin typeface="Trebuchet MS"/>
              </a:rPr>
              <a:t>chosen by each ETC programme individ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ossibly</a:t>
            </a:r>
            <a:r>
              <a:rPr b="0" lang="en-GB" sz="2400" spc="-1" strike="noStrike">
                <a:solidFill>
                  <a:srgbClr val="e50083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c9ae12"/>
                </a:solidFill>
                <a:latin typeface="Trebuchet MS"/>
              </a:rPr>
              <a:t>some ETC programmes will be able to fund PA 10 themes,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others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t is </a:t>
            </a:r>
            <a:r>
              <a:rPr b="0" lang="en-GB" sz="2400" spc="-1" strike="noStrike">
                <a:solidFill>
                  <a:srgbClr val="c9ae12"/>
                </a:solidFill>
                <a:latin typeface="Trebuchet MS"/>
              </a:rPr>
              <a:t>up to the programmes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o define more clearly what the thematic objectives mean in their are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9ae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9ae12"/>
                </a:solidFill>
                <a:latin typeface="Trebuchet MS"/>
              </a:rPr>
              <a:t>One programme covering the Danube macro-reg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 Will it fund themes relevant to PA 1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y </a:t>
            </a:r>
            <a:r>
              <a:rPr b="0" lang="en-US" sz="2400" spc="-1" strike="noStrike">
                <a:solidFill>
                  <a:srgbClr val="c9ae12"/>
                </a:solidFill>
                <a:latin typeface="Trebuchet MS"/>
              </a:rPr>
              <a:t>more flexibility to spend money outside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ross-border and transnational programme are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8"/>
          <p:cNvSpPr/>
          <p:nvPr/>
        </p:nvSpPr>
        <p:spPr>
          <a:xfrm>
            <a:off x="324000" y="1403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9ae12"/>
                </a:solidFill>
                <a:latin typeface="Trebuchet MS"/>
              </a:rPr>
              <a:t>Consider</a:t>
            </a: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feld 3"/>
          <p:cNvSpPr/>
          <p:nvPr/>
        </p:nvSpPr>
        <p:spPr>
          <a:xfrm>
            <a:off x="353880" y="1366920"/>
            <a:ext cx="832356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191919"/>
                </a:solidFill>
                <a:latin typeface="Trebuchet MS"/>
                <a:ea typeface="ＭＳ Ｐゴシック"/>
              </a:rPr>
              <a:t>Don‘t hesitate to contact 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ff"/>
                </a:solidFill>
                <a:uFillTx/>
                <a:latin typeface="Trebuchet MS"/>
                <a:ea typeface="ＭＳ Ｐゴシック"/>
                <a:hlinkClick r:id="rId1"/>
              </a:rPr>
              <a:t>ivana.lazic@interact-eu.net</a:t>
            </a:r>
            <a:r>
              <a:rPr b="0" lang="de-DE" sz="2000" spc="-1" strike="noStrike">
                <a:solidFill>
                  <a:srgbClr val="191919"/>
                </a:solidFill>
                <a:latin typeface="Trebuchet MS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ff"/>
                </a:solidFill>
                <a:uFillTx/>
                <a:latin typeface="Trebuchet MS"/>
                <a:ea typeface="ＭＳ Ｐゴシック"/>
                <a:hlinkClick r:id="rId2"/>
              </a:rPr>
              <a:t>katrin.stockhammer@interact-eu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191919"/>
                </a:solidFill>
                <a:latin typeface="Trebuchet MS"/>
                <a:ea typeface="ＭＳ Ｐゴシック"/>
              </a:rPr>
              <a:t>for further information or vis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0000ff"/>
                </a:solidFill>
                <a:uFillTx/>
                <a:latin typeface="Trebuchet MS"/>
                <a:ea typeface="ＭＳ Ｐゴシック"/>
                <a:hlinkClick r:id="rId3"/>
              </a:rPr>
              <a:t>www.interact-eu.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0000ff"/>
                </a:solidFill>
                <a:uFillTx/>
                <a:latin typeface="Trebuchet MS"/>
                <a:ea typeface="ＭＳ Ｐゴシック"/>
                <a:hlinkClick r:id="rId4"/>
              </a:rPr>
              <a:t>www.danube-region.eu</a:t>
            </a:r>
            <a:r>
              <a:rPr b="0" lang="de-DE" sz="2200" spc="-1" strike="noStrike">
                <a:solidFill>
                  <a:srgbClr val="191919"/>
                </a:solidFill>
                <a:latin typeface="Trebuchet MS"/>
                <a:ea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191919"/>
                </a:solidFill>
                <a:latin typeface="Trebuchet MS"/>
                <a:ea typeface="ＭＳ Ｐゴシック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Grafik 3" descr=""/>
          <p:cNvPicPr/>
          <p:nvPr/>
        </p:nvPicPr>
        <p:blipFill>
          <a:blip r:embed="rId5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86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6"/>
          <a:stretch/>
        </p:blipFill>
        <p:spPr>
          <a:xfrm>
            <a:off x="-49320" y="4059360"/>
            <a:ext cx="88520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566640" y="12283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feld 7"/>
          <p:cNvSpPr/>
          <p:nvPr/>
        </p:nvSpPr>
        <p:spPr>
          <a:xfrm>
            <a:off x="0" y="65055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7"/>
          <p:cNvSpPr/>
          <p:nvPr/>
        </p:nvSpPr>
        <p:spPr>
          <a:xfrm>
            <a:off x="6948360" y="1916280"/>
            <a:ext cx="1897200" cy="4076640"/>
          </a:xfrm>
          <a:custGeom>
            <a:avLst/>
            <a:gdLst>
              <a:gd name="textAreaLeft" fmla="*/ 92520 w 1897200"/>
              <a:gd name="textAreaRight" fmla="*/ 1804680 w 1897200"/>
              <a:gd name="textAreaTop" fmla="*/ 92520 h 4076640"/>
              <a:gd name="textAreaBottom" fmla="*/ 3984120 h 4076640"/>
            </a:gdLst>
            <a:ahLst/>
            <a:rect l="textAreaLeft" t="textAreaTop" r="textAreaRight" b="textAreaBottom"/>
            <a:pathLst>
              <a:path w="21600" h="46409">
                <a:moveTo>
                  <a:pt x="3600" y="0"/>
                </a:moveTo>
                <a:arcTo wR="3600" hR="3600" stAng="16200000" swAng="-5400000"/>
                <a:lnTo>
                  <a:pt x="0" y="42809"/>
                </a:lnTo>
                <a:arcTo wR="3600" hR="3600" stAng="10800000" swAng="-5400000"/>
                <a:lnTo>
                  <a:pt x="18000" y="464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ssible financing sourc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9"/>
          <p:cNvSpPr/>
          <p:nvPr/>
        </p:nvSpPr>
        <p:spPr>
          <a:xfrm>
            <a:off x="324000" y="1771560"/>
            <a:ext cx="6516360" cy="20163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licy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7"/>
          <p:cNvSpPr/>
          <p:nvPr/>
        </p:nvSpPr>
        <p:spPr>
          <a:xfrm>
            <a:off x="324000" y="3371760"/>
            <a:ext cx="7272360" cy="17845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perational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4"/>
          <p:cNvSpPr/>
          <p:nvPr/>
        </p:nvSpPr>
        <p:spPr>
          <a:xfrm>
            <a:off x="4702320" y="2854440"/>
            <a:ext cx="1771560" cy="39852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9360">
            <a:solidFill>
              <a:srgbClr val="8db3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National Contac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3"/>
          <p:cNvSpPr/>
          <p:nvPr/>
        </p:nvSpPr>
        <p:spPr>
          <a:xfrm>
            <a:off x="2700360" y="2354400"/>
            <a:ext cx="1925640" cy="4251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9360">
            <a:solidFill>
              <a:srgbClr val="8db3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uropean Com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G Region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3419640" y="3643200"/>
            <a:ext cx="2815920" cy="4334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e5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iority area coordinators (PAC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8"/>
          <p:cNvSpPr/>
          <p:nvPr/>
        </p:nvSpPr>
        <p:spPr>
          <a:xfrm>
            <a:off x="2700360" y="1916280"/>
            <a:ext cx="3773520" cy="36648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9360">
            <a:solidFill>
              <a:srgbClr val="8db3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uropean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9"/>
          <p:cNvSpPr/>
          <p:nvPr/>
        </p:nvSpPr>
        <p:spPr>
          <a:xfrm>
            <a:off x="4702320" y="2354400"/>
            <a:ext cx="1771560" cy="4251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9360">
            <a:solidFill>
              <a:srgbClr val="8db3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igh level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1577880" y="4468680"/>
            <a:ext cx="2778120" cy="2653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oject promo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7199280" y="2800440"/>
            <a:ext cx="1355760" cy="77616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936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hesion F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tructural Funds (Obj. 1-2-3 programm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3780000" y="2898720"/>
            <a:ext cx="239400" cy="644760"/>
          </a:xfrm>
          <a:prstGeom prst="upDownArrow">
            <a:avLst>
              <a:gd name="adj1" fmla="val 50000"/>
              <a:gd name="adj2" fmla="val 40685"/>
            </a:avLst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5472000" y="3281400"/>
            <a:ext cx="223920" cy="355680"/>
          </a:xfrm>
          <a:prstGeom prst="upDownArrow">
            <a:avLst>
              <a:gd name="adj1" fmla="val 50000"/>
              <a:gd name="adj2" fmla="val 27540"/>
            </a:avLst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960480" y="3573360"/>
            <a:ext cx="1668600" cy="503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e5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teering  group for each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0"/>
          <p:cNvSpPr/>
          <p:nvPr/>
        </p:nvSpPr>
        <p:spPr>
          <a:xfrm>
            <a:off x="7197840" y="5116680"/>
            <a:ext cx="1361880" cy="61596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936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nternational Financing institu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 rot="10800000">
            <a:off x="1794960" y="4113360"/>
            <a:ext cx="236520" cy="271440"/>
          </a:xfrm>
          <a:prstGeom prst="downArrow">
            <a:avLst>
              <a:gd name="adj1" fmla="val 50000"/>
              <a:gd name="adj2" fmla="val 3107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2035080" y="4143240"/>
            <a:ext cx="236520" cy="271440"/>
          </a:xfrm>
          <a:prstGeom prst="downArrow">
            <a:avLst>
              <a:gd name="adj1" fmla="val 50000"/>
              <a:gd name="adj2" fmla="val 3107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 rot="5400000">
            <a:off x="2955600" y="3441600"/>
            <a:ext cx="145800" cy="692280"/>
          </a:xfrm>
          <a:prstGeom prst="upDownArrow">
            <a:avLst>
              <a:gd name="adj1" fmla="val 50000"/>
              <a:gd name="adj2" fmla="val 40425"/>
            </a:avLst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7169040" y="3693960"/>
            <a:ext cx="1363680" cy="44928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936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P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EN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7"/>
          <p:cNvSpPr/>
          <p:nvPr/>
        </p:nvSpPr>
        <p:spPr>
          <a:xfrm>
            <a:off x="7211880" y="4264200"/>
            <a:ext cx="136224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936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ectoral EU and national funding (environmant, education, et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7164360" y="5821200"/>
            <a:ext cx="1409760" cy="4874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936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Private bank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on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 rot="10800000">
            <a:off x="3590640" y="4119480"/>
            <a:ext cx="236520" cy="271440"/>
          </a:xfrm>
          <a:prstGeom prst="downArrow">
            <a:avLst>
              <a:gd name="adj1" fmla="val 50000"/>
              <a:gd name="adj2" fmla="val 3107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3832200" y="4149720"/>
            <a:ext cx="236520" cy="271440"/>
          </a:xfrm>
          <a:prstGeom prst="downArrow">
            <a:avLst>
              <a:gd name="adj1" fmla="val 50000"/>
              <a:gd name="adj2" fmla="val 3107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9ae12"/>
                </a:solidFill>
                <a:latin typeface="Trebuchet MS"/>
              </a:rPr>
              <a:t>G</a:t>
            </a:r>
            <a:r>
              <a:rPr b="0" lang="en-US" sz="2000" spc="-1" strike="noStrike">
                <a:solidFill>
                  <a:srgbClr val="c9ae12"/>
                </a:solidFill>
                <a:latin typeface="Trebuchet MS"/>
              </a:rPr>
              <a:t>overnance model of the EUS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468360" y="1657440"/>
            <a:ext cx="828036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Cs are an empowered lobby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Cs act as policy facilitators and fill gaps that cannot be filled by programmes, financing institutions, policy maker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Cs act as Danube Region knowledge manage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Cs act as messengers of the EUS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65" name="Rechteck 7"/>
          <p:cNvSpPr/>
          <p:nvPr/>
        </p:nvSpPr>
        <p:spPr>
          <a:xfrm>
            <a:off x="17928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9ae12"/>
                </a:solidFill>
                <a:latin typeface="Trebuchet MS"/>
              </a:rPr>
              <a:t>The role of the 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4"/>
          <p:cNvSpPr/>
          <p:nvPr/>
        </p:nvSpPr>
        <p:spPr>
          <a:xfrm>
            <a:off x="395280" y="1484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c9ae12"/>
                </a:solidFill>
                <a:uFillTx/>
                <a:latin typeface="Trebuchet MS"/>
              </a:rPr>
              <a:t>Benefit No 1</a:t>
            </a:r>
            <a:r>
              <a:rPr b="0" lang="de-DE" sz="2800" spc="-1" strike="noStrike">
                <a:solidFill>
                  <a:srgbClr val="c9ae12"/>
                </a:solidFill>
                <a:latin typeface="Trebuchet MS"/>
              </a:rPr>
              <a:t>: Clustering of knowled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70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Benefits of the EUS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5280" y="1989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A 1A: “To improve comprehensive waterway management of the Danube and its tributari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0 projects or project ideas, 2 received Letter of Recommen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twork of Danube Waterway Administrations - (NEWADA and NEWADA duo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49280" indent="-2746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ports on measures to create a reliable waterway infrastructure presented at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rebuchet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PA 1A Steering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49280" indent="-274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claration signed by Ministers of the Danube riparian states (except for Hungary and Ukraine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74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5280" y="2472840"/>
            <a:ext cx="842472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“</a:t>
            </a: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Sturgeon 2020 Strategy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PA 6 Target: “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ecure viable populations of Danube sturgeon species and other indigenous fish species by 2020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rebuchet MS"/>
              </a:rPr>
              <a:t>Danube Sturgeon Task Force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” (DSTF) established in Jan 2012 - expert group with representatives of international organisations and NGOs (ICPDR, IAD, WWF), sturgeon experts and relevant stakeholders within PA 6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7"/>
          <p:cNvSpPr/>
          <p:nvPr/>
        </p:nvSpPr>
        <p:spPr>
          <a:xfrm>
            <a:off x="32400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Benefits of the EUS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395280" y="1484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c9ae12"/>
                </a:solidFill>
                <a:uFillTx/>
                <a:latin typeface="Trebuchet MS"/>
              </a:rPr>
              <a:t>Benefit No 2</a:t>
            </a:r>
            <a:r>
              <a:rPr b="0" lang="de-DE" sz="2800" spc="-1" strike="noStrike">
                <a:solidFill>
                  <a:srgbClr val="c9ae12"/>
                </a:solidFill>
                <a:latin typeface="Trebuchet MS"/>
              </a:rPr>
              <a:t>: Creating / Accelerating cross-sectoral </a:t>
            </a:r>
            <a:r>
              <a:rPr b="0" lang="en-US" sz="2800" spc="-1" strike="noStrike">
                <a:solidFill>
                  <a:srgbClr val="c9ae12"/>
                </a:solidFill>
                <a:latin typeface="Trebuchet MS"/>
              </a:rPr>
              <a:t>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5816520"/>
            <a:ext cx="9144000" cy="104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0"/>
            <a:ext cx="9144000" cy="6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7"/>
          <p:cNvGrpSpPr/>
          <p:nvPr/>
        </p:nvGrpSpPr>
        <p:grpSpPr>
          <a:xfrm>
            <a:off x="1390680" y="1177920"/>
            <a:ext cx="5446440" cy="4179960"/>
            <a:chOff x="1390680" y="1177920"/>
            <a:chExt cx="5446440" cy="4179960"/>
          </a:xfrm>
        </p:grpSpPr>
        <p:sp>
          <p:nvSpPr>
            <p:cNvPr id="182" name="Text Box 8"/>
            <p:cNvSpPr/>
            <p:nvPr/>
          </p:nvSpPr>
          <p:spPr>
            <a:xfrm>
              <a:off x="3859200" y="1249200"/>
              <a:ext cx="363600" cy="4108680"/>
            </a:xfrm>
            <a:prstGeom prst="rect">
              <a:avLst/>
            </a:prstGeom>
            <a:gradFill rotWithShape="0">
              <a:gsLst>
                <a:gs pos="0">
                  <a:srgbClr val="b2a1c7"/>
                </a:gs>
                <a:gs pos="50000">
                  <a:srgbClr val="e5dfec"/>
                </a:gs>
                <a:gs pos="100000">
                  <a:srgbClr val="b2a1c7"/>
                </a:gs>
              </a:gsLst>
              <a:lin ang="18900000"/>
            </a:gradFill>
            <a:ln w="12600">
              <a:solidFill>
                <a:srgbClr val="b2a1c7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1f497d"/>
                  </a:solidFill>
                  <a:latin typeface="Times New Roman"/>
                </a:rPr>
                <a:t>STURG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1f497d"/>
                  </a:solidFill>
                  <a:latin typeface="Times New Roman"/>
                </a:rPr>
                <a:t>20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9"/>
            <p:cNvSpPr/>
            <p:nvPr/>
          </p:nvSpPr>
          <p:spPr>
            <a:xfrm>
              <a:off x="1390680" y="1374840"/>
              <a:ext cx="1063440" cy="50328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1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 </a:t>
              </a: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Navigati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1390680" y="2265840"/>
              <a:ext cx="1063440" cy="52308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Energ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1390680" y="3065040"/>
              <a:ext cx="1063440" cy="57780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Tourism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1390680" y="3903120"/>
              <a:ext cx="1063440" cy="48708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Water qual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3"/>
            <p:cNvSpPr/>
            <p:nvPr/>
          </p:nvSpPr>
          <p:spPr>
            <a:xfrm>
              <a:off x="1390680" y="4648320"/>
              <a:ext cx="1063440" cy="61380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Environmental ri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5689080" y="1249200"/>
              <a:ext cx="1148040" cy="49356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Biodivers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5"/>
            <p:cNvSpPr/>
            <p:nvPr/>
          </p:nvSpPr>
          <p:spPr>
            <a:xfrm>
              <a:off x="5689080" y="2016000"/>
              <a:ext cx="1148040" cy="49356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Research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6"/>
            <p:cNvSpPr/>
            <p:nvPr/>
          </p:nvSpPr>
          <p:spPr>
            <a:xfrm>
              <a:off x="5689080" y="2698920"/>
              <a:ext cx="1148040" cy="56520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Competitivenes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7"/>
            <p:cNvSpPr/>
            <p:nvPr/>
          </p:nvSpPr>
          <p:spPr>
            <a:xfrm>
              <a:off x="5689080" y="4864680"/>
              <a:ext cx="1148040" cy="49320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Secur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8"/>
            <p:cNvSpPr/>
            <p:nvPr/>
          </p:nvSpPr>
          <p:spPr>
            <a:xfrm>
              <a:off x="5689080" y="3439800"/>
              <a:ext cx="1148040" cy="46296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eople and skil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9"/>
            <p:cNvSpPr/>
            <p:nvPr/>
          </p:nvSpPr>
          <p:spPr>
            <a:xfrm>
              <a:off x="5689080" y="4105080"/>
              <a:ext cx="1148040" cy="61380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Institutional capac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4" name="AutoShape 20"/>
            <p:cNvCxnSpPr/>
            <p:nvPr/>
          </p:nvCxnSpPr>
          <p:spPr>
            <a:xfrm>
              <a:off x="2509200" y="1670760"/>
              <a:ext cx="131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5" name="Text Box 21"/>
            <p:cNvSpPr/>
            <p:nvPr/>
          </p:nvSpPr>
          <p:spPr>
            <a:xfrm>
              <a:off x="2587320" y="1374840"/>
              <a:ext cx="1176120" cy="2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Habitat alter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22"/>
            <p:cNvCxnSpPr/>
            <p:nvPr/>
          </p:nvCxnSpPr>
          <p:spPr>
            <a:xfrm>
              <a:off x="2509200" y="2509200"/>
              <a:ext cx="131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7" name="AutoShape 23"/>
            <p:cNvCxnSpPr/>
            <p:nvPr/>
          </p:nvCxnSpPr>
          <p:spPr>
            <a:xfrm>
              <a:off x="2509200" y="3281400"/>
              <a:ext cx="131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8" name="AutoShape 24"/>
            <p:cNvCxnSpPr/>
            <p:nvPr/>
          </p:nvCxnSpPr>
          <p:spPr>
            <a:xfrm>
              <a:off x="2541960" y="4169160"/>
              <a:ext cx="131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9" name="AutoShape 25"/>
            <p:cNvCxnSpPr/>
            <p:nvPr/>
          </p:nvCxnSpPr>
          <p:spPr>
            <a:xfrm>
              <a:off x="2509200" y="5079600"/>
              <a:ext cx="131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0" name="AutoShape 26"/>
            <p:cNvCxnSpPr/>
            <p:nvPr/>
          </p:nvCxnSpPr>
          <p:spPr>
            <a:xfrm>
              <a:off x="4298760" y="1516680"/>
              <a:ext cx="131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1" name="AutoShape 27"/>
            <p:cNvCxnSpPr/>
            <p:nvPr/>
          </p:nvCxnSpPr>
          <p:spPr>
            <a:xfrm>
              <a:off x="4298760" y="2329200"/>
              <a:ext cx="131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2" name="AutoShape 28"/>
            <p:cNvCxnSpPr/>
            <p:nvPr/>
          </p:nvCxnSpPr>
          <p:spPr>
            <a:xfrm>
              <a:off x="4298760" y="3064320"/>
              <a:ext cx="13176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3" name="AutoShape 29"/>
            <p:cNvCxnSpPr/>
            <p:nvPr/>
          </p:nvCxnSpPr>
          <p:spPr>
            <a:xfrm>
              <a:off x="4340160" y="3790080"/>
              <a:ext cx="131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4" name="AutoShape 30"/>
            <p:cNvCxnSpPr/>
            <p:nvPr/>
          </p:nvCxnSpPr>
          <p:spPr>
            <a:xfrm>
              <a:off x="4298760" y="4439880"/>
              <a:ext cx="131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5" name="AutoShape 31"/>
            <p:cNvCxnSpPr/>
            <p:nvPr/>
          </p:nvCxnSpPr>
          <p:spPr>
            <a:xfrm>
              <a:off x="4340160" y="5080320"/>
              <a:ext cx="131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6" name="Text Box 32"/>
            <p:cNvSpPr/>
            <p:nvPr/>
          </p:nvSpPr>
          <p:spPr>
            <a:xfrm>
              <a:off x="4340160" y="4779720"/>
              <a:ext cx="1316880" cy="2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Caviar black marke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3"/>
            <p:cNvSpPr/>
            <p:nvPr/>
          </p:nvSpPr>
          <p:spPr>
            <a:xfrm>
              <a:off x="2587320" y="3849480"/>
              <a:ext cx="1238760" cy="2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Food web + habita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34"/>
            <p:cNvSpPr/>
            <p:nvPr/>
          </p:nvSpPr>
          <p:spPr>
            <a:xfrm>
              <a:off x="2587320" y="2898000"/>
              <a:ext cx="1117800" cy="26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Eco-touris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5"/>
            <p:cNvSpPr/>
            <p:nvPr/>
          </p:nvSpPr>
          <p:spPr>
            <a:xfrm>
              <a:off x="2509200" y="2133360"/>
              <a:ext cx="131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Continuity disrup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6"/>
            <p:cNvSpPr/>
            <p:nvPr/>
          </p:nvSpPr>
          <p:spPr>
            <a:xfrm>
              <a:off x="2509200" y="4719240"/>
              <a:ext cx="1316880" cy="27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Flood protec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7"/>
            <p:cNvSpPr/>
            <p:nvPr/>
          </p:nvSpPr>
          <p:spPr>
            <a:xfrm>
              <a:off x="4298760" y="1177920"/>
              <a:ext cx="131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Genetic po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8"/>
            <p:cNvSpPr/>
            <p:nvPr/>
          </p:nvSpPr>
          <p:spPr>
            <a:xfrm>
              <a:off x="4248360" y="1959480"/>
              <a:ext cx="1409040" cy="27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Key habitats + specie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4298760" y="2788920"/>
              <a:ext cx="1316880" cy="2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Small eco-busines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40"/>
            <p:cNvSpPr/>
            <p:nvPr/>
          </p:nvSpPr>
          <p:spPr>
            <a:xfrm>
              <a:off x="4340160" y="3439800"/>
              <a:ext cx="13168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Ecological educ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41"/>
            <p:cNvSpPr/>
            <p:nvPr/>
          </p:nvSpPr>
          <p:spPr>
            <a:xfrm>
              <a:off x="4298760" y="4174200"/>
              <a:ext cx="1316880" cy="2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Law enforc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42"/>
          <p:cNvSpPr/>
          <p:nvPr/>
        </p:nvSpPr>
        <p:spPr>
          <a:xfrm>
            <a:off x="5319720" y="5548680"/>
            <a:ext cx="336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1f497d"/>
                </a:solidFill>
                <a:latin typeface="Arial"/>
              </a:rPr>
              <a:t>Reference: DSTF (Dr. Cristina Sandu, Romani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595080" y="771480"/>
            <a:ext cx="560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Interrelation of Sturgeon Strategy 2020 with EUSD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4" descr="danube -header biodiversity"/>
          <p:cNvPicPr/>
          <p:nvPr/>
        </p:nvPicPr>
        <p:blipFill>
          <a:blip r:embed="rId1"/>
          <a:stretch/>
        </p:blipFill>
        <p:spPr>
          <a:xfrm>
            <a:off x="6756480" y="5850000"/>
            <a:ext cx="2120760" cy="8668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5"/>
          <p:cNvSpPr/>
          <p:nvPr/>
        </p:nvSpPr>
        <p:spPr>
          <a:xfrm>
            <a:off x="0" y="0"/>
            <a:ext cx="9144000" cy="6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ntegrative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5816520"/>
            <a:ext cx="9144000" cy="104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0"/>
            <a:ext cx="9144000" cy="6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Danube Sturgeon Task Force – Overall organization (IAD propos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828720" y="3292560"/>
            <a:ext cx="4118040" cy="954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1"/>
          <p:cNvSpPr/>
          <p:nvPr/>
        </p:nvSpPr>
        <p:spPr>
          <a:xfrm>
            <a:off x="6380280" y="3292560"/>
            <a:ext cx="1873080" cy="887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6"/>
          <p:cNvGrpSpPr/>
          <p:nvPr/>
        </p:nvGrpSpPr>
        <p:grpSpPr>
          <a:xfrm>
            <a:off x="828720" y="3359160"/>
            <a:ext cx="7548480" cy="1043280"/>
            <a:chOff x="828720" y="3359160"/>
            <a:chExt cx="7548480" cy="1043280"/>
          </a:xfrm>
        </p:grpSpPr>
        <p:grpSp>
          <p:nvGrpSpPr>
            <p:cNvPr id="225" name="Group 84"/>
            <p:cNvGrpSpPr/>
            <p:nvPr/>
          </p:nvGrpSpPr>
          <p:grpSpPr>
            <a:xfrm>
              <a:off x="828720" y="3359160"/>
              <a:ext cx="4117320" cy="1043280"/>
              <a:chOff x="828720" y="3359160"/>
              <a:chExt cx="4117320" cy="1043280"/>
            </a:xfrm>
          </p:grpSpPr>
          <p:sp>
            <p:nvSpPr>
              <p:cNvPr id="226" name="TextBox 15"/>
              <p:cNvSpPr/>
              <p:nvPr/>
            </p:nvSpPr>
            <p:spPr>
              <a:xfrm>
                <a:off x="828720" y="3973680"/>
                <a:ext cx="374400" cy="2613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D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16"/>
              <p:cNvSpPr/>
              <p:nvPr/>
            </p:nvSpPr>
            <p:spPr>
              <a:xfrm>
                <a:off x="1203120" y="3973680"/>
                <a:ext cx="372960" cy="2613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A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17"/>
              <p:cNvSpPr/>
              <p:nvPr/>
            </p:nvSpPr>
            <p:spPr>
              <a:xfrm>
                <a:off x="1576080" y="3973680"/>
                <a:ext cx="312480" cy="4287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S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Box 18"/>
              <p:cNvSpPr/>
              <p:nvPr/>
            </p:nvSpPr>
            <p:spPr>
              <a:xfrm>
                <a:off x="2700000" y="3973680"/>
                <a:ext cx="374400" cy="2613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H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19"/>
              <p:cNvSpPr/>
              <p:nvPr/>
            </p:nvSpPr>
            <p:spPr>
              <a:xfrm>
                <a:off x="3074760" y="3973680"/>
                <a:ext cx="366480" cy="2613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Box 20"/>
              <p:cNvSpPr/>
              <p:nvPr/>
            </p:nvSpPr>
            <p:spPr>
              <a:xfrm>
                <a:off x="3447720" y="3973680"/>
                <a:ext cx="367920" cy="2613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R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Box 21"/>
              <p:cNvSpPr/>
              <p:nvPr/>
            </p:nvSpPr>
            <p:spPr>
              <a:xfrm>
                <a:off x="3822480" y="3973680"/>
                <a:ext cx="374400" cy="2613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B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22"/>
              <p:cNvSpPr/>
              <p:nvPr/>
            </p:nvSpPr>
            <p:spPr>
              <a:xfrm>
                <a:off x="4571640" y="3973680"/>
                <a:ext cx="374400" cy="2613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U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Box 23"/>
              <p:cNvSpPr/>
              <p:nvPr/>
            </p:nvSpPr>
            <p:spPr>
              <a:xfrm>
                <a:off x="2327040" y="3973680"/>
                <a:ext cx="372960" cy="2613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H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Box 24"/>
              <p:cNvSpPr/>
              <p:nvPr/>
            </p:nvSpPr>
            <p:spPr>
              <a:xfrm>
                <a:off x="1888920" y="3973680"/>
                <a:ext cx="437760" cy="2613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Bi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Box 25"/>
              <p:cNvSpPr/>
              <p:nvPr/>
            </p:nvSpPr>
            <p:spPr>
              <a:xfrm>
                <a:off x="4196880" y="3973680"/>
                <a:ext cx="374400" cy="4287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M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26"/>
              <p:cNvSpPr/>
              <p:nvPr/>
            </p:nvSpPr>
            <p:spPr>
              <a:xfrm>
                <a:off x="828720" y="3359160"/>
                <a:ext cx="411732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Managerial lev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(environment and agriculture ministries, water management units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TextBox 42"/>
            <p:cNvSpPr/>
            <p:nvPr/>
          </p:nvSpPr>
          <p:spPr>
            <a:xfrm>
              <a:off x="6505560" y="335916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anagerial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43"/>
            <p:cNvSpPr/>
            <p:nvPr/>
          </p:nvSpPr>
          <p:spPr>
            <a:xfrm>
              <a:off x="6380280" y="3905280"/>
              <a:ext cx="374400" cy="26136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U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44"/>
            <p:cNvSpPr/>
            <p:nvPr/>
          </p:nvSpPr>
          <p:spPr>
            <a:xfrm>
              <a:off x="6755040" y="3905280"/>
              <a:ext cx="374400" cy="26136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R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45"/>
            <p:cNvSpPr/>
            <p:nvPr/>
          </p:nvSpPr>
          <p:spPr>
            <a:xfrm>
              <a:off x="7128000" y="3905280"/>
              <a:ext cx="376200" cy="26136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B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46"/>
            <p:cNvSpPr/>
            <p:nvPr/>
          </p:nvSpPr>
          <p:spPr>
            <a:xfrm>
              <a:off x="7504200" y="3905280"/>
              <a:ext cx="365040" cy="26136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T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47"/>
            <p:cNvSpPr/>
            <p:nvPr/>
          </p:nvSpPr>
          <p:spPr>
            <a:xfrm>
              <a:off x="7878960" y="3905280"/>
              <a:ext cx="372960" cy="26136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R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50"/>
          <p:cNvSpPr/>
          <p:nvPr/>
        </p:nvSpPr>
        <p:spPr>
          <a:xfrm>
            <a:off x="6380280" y="4656240"/>
            <a:ext cx="1873080" cy="955440"/>
          </a:xfrm>
          <a:prstGeom prst="rect">
            <a:avLst/>
          </a:prstGeom>
          <a:solidFill>
            <a:srgbClr val="99ff99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80"/>
          <p:cNvCxnSpPr/>
          <p:nvPr/>
        </p:nvCxnSpPr>
        <p:spPr>
          <a:xfrm>
            <a:off x="6256440" y="2882520"/>
            <a:ext cx="373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Straight Arrow Connector 81"/>
          <p:cNvCxnSpPr/>
          <p:nvPr/>
        </p:nvCxnSpPr>
        <p:spPr>
          <a:xfrm flipH="1">
            <a:off x="6256080" y="2950920"/>
            <a:ext cx="373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47" name="Group 91"/>
          <p:cNvGrpSpPr/>
          <p:nvPr/>
        </p:nvGrpSpPr>
        <p:grpSpPr>
          <a:xfrm>
            <a:off x="828720" y="836640"/>
            <a:ext cx="7610400" cy="4999680"/>
            <a:chOff x="828720" y="836640"/>
            <a:chExt cx="7610400" cy="4999680"/>
          </a:xfrm>
        </p:grpSpPr>
        <p:grpSp>
          <p:nvGrpSpPr>
            <p:cNvPr id="248" name="Group 79"/>
            <p:cNvGrpSpPr/>
            <p:nvPr/>
          </p:nvGrpSpPr>
          <p:grpSpPr>
            <a:xfrm>
              <a:off x="828720" y="1586880"/>
              <a:ext cx="3743280" cy="1072440"/>
              <a:chOff x="828720" y="1586880"/>
              <a:chExt cx="3743280" cy="1072440"/>
            </a:xfrm>
          </p:grpSpPr>
          <p:sp>
            <p:nvSpPr>
              <p:cNvPr id="249" name="Rectangle 13"/>
              <p:cNvSpPr/>
              <p:nvPr/>
            </p:nvSpPr>
            <p:spPr>
              <a:xfrm>
                <a:off x="828720" y="1586880"/>
                <a:ext cx="3743280" cy="954720"/>
              </a:xfrm>
              <a:prstGeom prst="rect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Box 9"/>
              <p:cNvSpPr/>
              <p:nvPr/>
            </p:nvSpPr>
            <p:spPr>
              <a:xfrm>
                <a:off x="1827000" y="2063160"/>
                <a:ext cx="998280" cy="428760"/>
              </a:xfrm>
              <a:prstGeom prst="rect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UN (e.g. FAO, UNDP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Box 9"/>
              <p:cNvSpPr/>
              <p:nvPr/>
            </p:nvSpPr>
            <p:spPr>
              <a:xfrm>
                <a:off x="2887560" y="2063160"/>
                <a:ext cx="934920" cy="596160"/>
              </a:xfrm>
              <a:prstGeom prst="rect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National Governmen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Box 9"/>
              <p:cNvSpPr/>
              <p:nvPr/>
            </p:nvSpPr>
            <p:spPr>
              <a:xfrm>
                <a:off x="3948120" y="2063160"/>
                <a:ext cx="560160" cy="428760"/>
              </a:xfrm>
              <a:prstGeom prst="rect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ICPD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Box 10"/>
              <p:cNvSpPr/>
              <p:nvPr/>
            </p:nvSpPr>
            <p:spPr>
              <a:xfrm>
                <a:off x="890280" y="2063160"/>
                <a:ext cx="873000" cy="596160"/>
              </a:xfrm>
              <a:prstGeom prst="rect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European Commiss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Box 12"/>
              <p:cNvSpPr/>
              <p:nvPr/>
            </p:nvSpPr>
            <p:spPr>
              <a:xfrm>
                <a:off x="1639800" y="1654920"/>
                <a:ext cx="218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      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Political level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TextBox 27"/>
            <p:cNvSpPr/>
            <p:nvPr/>
          </p:nvSpPr>
          <p:spPr>
            <a:xfrm>
              <a:off x="4759200" y="2063880"/>
              <a:ext cx="1433520" cy="1159560"/>
            </a:xfrm>
            <a:prstGeom prst="pie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DST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as interface and pivotal point for DRB sturgeon conserv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9"/>
            <p:cNvSpPr/>
            <p:nvPr/>
          </p:nvSpPr>
          <p:spPr>
            <a:xfrm>
              <a:off x="2949480" y="2610000"/>
              <a:ext cx="1247760" cy="76356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International NGOs (e.g. WSCS, WWF, IAD, IUCN, DEF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2"/>
            <p:cNvSpPr/>
            <p:nvPr/>
          </p:nvSpPr>
          <p:spPr>
            <a:xfrm>
              <a:off x="2201760" y="836640"/>
              <a:ext cx="2244600" cy="546120"/>
            </a:xfrm>
            <a:prstGeom prst="ellips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anube River Bas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traight Connector 34"/>
            <p:cNvSpPr/>
            <p:nvPr/>
          </p:nvSpPr>
          <p:spPr>
            <a:xfrm>
              <a:off x="6007320" y="904680"/>
              <a:ext cx="0" cy="4705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35"/>
            <p:cNvSpPr/>
            <p:nvPr/>
          </p:nvSpPr>
          <p:spPr>
            <a:xfrm>
              <a:off x="6567480" y="836640"/>
              <a:ext cx="1496880" cy="546120"/>
            </a:xfrm>
            <a:prstGeom prst="ellips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lack S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82"/>
            <p:cNvGrpSpPr/>
            <p:nvPr/>
          </p:nvGrpSpPr>
          <p:grpSpPr>
            <a:xfrm>
              <a:off x="6255360" y="1654560"/>
              <a:ext cx="2183760" cy="1108800"/>
              <a:chOff x="6255360" y="1654560"/>
              <a:chExt cx="2183760" cy="1108800"/>
            </a:xfrm>
          </p:grpSpPr>
          <p:sp>
            <p:nvSpPr>
              <p:cNvPr id="261" name="Rectangle 36"/>
              <p:cNvSpPr/>
              <p:nvPr/>
            </p:nvSpPr>
            <p:spPr>
              <a:xfrm>
                <a:off x="6380640" y="1654560"/>
                <a:ext cx="1933200" cy="954000"/>
              </a:xfrm>
              <a:prstGeom prst="rect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37"/>
              <p:cNvSpPr/>
              <p:nvPr/>
            </p:nvSpPr>
            <p:spPr>
              <a:xfrm>
                <a:off x="6380640" y="1995840"/>
                <a:ext cx="873000" cy="763560"/>
              </a:xfrm>
              <a:prstGeom prst="rect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Black Sea Commission,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DABLA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Box 9"/>
              <p:cNvSpPr/>
              <p:nvPr/>
            </p:nvSpPr>
            <p:spPr>
              <a:xfrm>
                <a:off x="7378920" y="2167200"/>
                <a:ext cx="936360" cy="596160"/>
              </a:xfrm>
              <a:prstGeom prst="rect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National Governmen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39"/>
              <p:cNvSpPr/>
              <p:nvPr/>
            </p:nvSpPr>
            <p:spPr>
              <a:xfrm>
                <a:off x="6255360" y="1654560"/>
                <a:ext cx="2183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      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Political level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TextBox 40"/>
            <p:cNvSpPr/>
            <p:nvPr/>
          </p:nvSpPr>
          <p:spPr>
            <a:xfrm>
              <a:off x="6755040" y="2814840"/>
              <a:ext cx="1433520" cy="428760"/>
            </a:xfrm>
            <a:prstGeom prst="rect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lack Sea Sturgeon T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89"/>
            <p:cNvGrpSpPr/>
            <p:nvPr/>
          </p:nvGrpSpPr>
          <p:grpSpPr>
            <a:xfrm>
              <a:off x="828720" y="4588560"/>
              <a:ext cx="7423560" cy="1247760"/>
              <a:chOff x="828720" y="4588560"/>
              <a:chExt cx="7423560" cy="1247760"/>
            </a:xfrm>
          </p:grpSpPr>
          <p:sp>
            <p:nvSpPr>
              <p:cNvPr id="267" name="TextBox 51"/>
              <p:cNvSpPr/>
              <p:nvPr/>
            </p:nvSpPr>
            <p:spPr>
              <a:xfrm>
                <a:off x="6318720" y="4722840"/>
                <a:ext cx="1870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Executive lev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52"/>
              <p:cNvSpPr/>
              <p:nvPr/>
            </p:nvSpPr>
            <p:spPr>
              <a:xfrm>
                <a:off x="6380640" y="5338800"/>
                <a:ext cx="374400" cy="261360"/>
              </a:xfrm>
              <a:prstGeom prst="rect">
                <a:avLst/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U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Box 53"/>
              <p:cNvSpPr/>
              <p:nvPr/>
            </p:nvSpPr>
            <p:spPr>
              <a:xfrm>
                <a:off x="6755400" y="5338800"/>
                <a:ext cx="372960" cy="261360"/>
              </a:xfrm>
              <a:prstGeom prst="rect">
                <a:avLst/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R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Box 54"/>
              <p:cNvSpPr/>
              <p:nvPr/>
            </p:nvSpPr>
            <p:spPr>
              <a:xfrm>
                <a:off x="7128360" y="5338800"/>
                <a:ext cx="376200" cy="261360"/>
              </a:xfrm>
              <a:prstGeom prst="rect">
                <a:avLst/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B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Box 55"/>
              <p:cNvSpPr/>
              <p:nvPr/>
            </p:nvSpPr>
            <p:spPr>
              <a:xfrm>
                <a:off x="7503120" y="5338800"/>
                <a:ext cx="374400" cy="261360"/>
              </a:xfrm>
              <a:prstGeom prst="rect">
                <a:avLst/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T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Box 56"/>
              <p:cNvSpPr/>
              <p:nvPr/>
            </p:nvSpPr>
            <p:spPr>
              <a:xfrm>
                <a:off x="7885800" y="5338800"/>
                <a:ext cx="366480" cy="261360"/>
              </a:xfrm>
              <a:prstGeom prst="rect">
                <a:avLst/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R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Group 87"/>
              <p:cNvGrpSpPr/>
              <p:nvPr/>
            </p:nvGrpSpPr>
            <p:grpSpPr>
              <a:xfrm>
                <a:off x="828720" y="4588560"/>
                <a:ext cx="4117680" cy="1247760"/>
                <a:chOff x="828720" y="4588560"/>
                <a:chExt cx="4117680" cy="1247760"/>
              </a:xfrm>
            </p:grpSpPr>
            <p:sp>
              <p:nvSpPr>
                <p:cNvPr id="274" name="Rectangle 29"/>
                <p:cNvSpPr/>
                <p:nvPr/>
              </p:nvSpPr>
              <p:spPr>
                <a:xfrm>
                  <a:off x="828720" y="4588560"/>
                  <a:ext cx="4117680" cy="109044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TextBox 31"/>
                <p:cNvSpPr/>
                <p:nvPr/>
              </p:nvSpPr>
              <p:spPr>
                <a:xfrm>
                  <a:off x="828720" y="4588560"/>
                  <a:ext cx="3992400" cy="80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Executive level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(sturgeon experts, researchers, national NGOs, local communities, fishery companies, hatcheries) 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TextBox 57"/>
                <p:cNvSpPr/>
                <p:nvPr/>
              </p:nvSpPr>
              <p:spPr>
                <a:xfrm>
                  <a:off x="828720" y="5407560"/>
                  <a:ext cx="374400" cy="261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DE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TextBox 58"/>
                <p:cNvSpPr/>
                <p:nvPr/>
              </p:nvSpPr>
              <p:spPr>
                <a:xfrm>
                  <a:off x="1203120" y="5407560"/>
                  <a:ext cx="372960" cy="261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AT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TextBox 59"/>
                <p:cNvSpPr/>
                <p:nvPr/>
              </p:nvSpPr>
              <p:spPr>
                <a:xfrm>
                  <a:off x="1576440" y="5407560"/>
                  <a:ext cx="374400" cy="261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S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TextBox 60"/>
                <p:cNvSpPr/>
                <p:nvPr/>
              </p:nvSpPr>
              <p:spPr>
                <a:xfrm>
                  <a:off x="1952640" y="5407560"/>
                  <a:ext cx="374400" cy="428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BiH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TextBox 61"/>
                <p:cNvSpPr/>
                <p:nvPr/>
              </p:nvSpPr>
              <p:spPr>
                <a:xfrm>
                  <a:off x="2327040" y="5407560"/>
                  <a:ext cx="372960" cy="261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HR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TextBox 62"/>
                <p:cNvSpPr/>
                <p:nvPr/>
              </p:nvSpPr>
              <p:spPr>
                <a:xfrm>
                  <a:off x="2700360" y="5407560"/>
                  <a:ext cx="374400" cy="261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HU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TextBox 63"/>
                <p:cNvSpPr/>
                <p:nvPr/>
              </p:nvSpPr>
              <p:spPr>
                <a:xfrm>
                  <a:off x="3074760" y="5407560"/>
                  <a:ext cx="372960" cy="261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R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TextBox 64"/>
                <p:cNvSpPr/>
                <p:nvPr/>
              </p:nvSpPr>
              <p:spPr>
                <a:xfrm>
                  <a:off x="3448080" y="5407560"/>
                  <a:ext cx="374400" cy="261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RO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TextBox 65"/>
                <p:cNvSpPr/>
                <p:nvPr/>
              </p:nvSpPr>
              <p:spPr>
                <a:xfrm>
                  <a:off x="3822480" y="5407560"/>
                  <a:ext cx="374400" cy="261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BG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TextBox 66"/>
                <p:cNvSpPr/>
                <p:nvPr/>
              </p:nvSpPr>
              <p:spPr>
                <a:xfrm>
                  <a:off x="4197240" y="5407560"/>
                  <a:ext cx="372960" cy="428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MD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TextBox 67"/>
                <p:cNvSpPr/>
                <p:nvPr/>
              </p:nvSpPr>
              <p:spPr>
                <a:xfrm>
                  <a:off x="4572000" y="5407560"/>
                  <a:ext cx="374400" cy="261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U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87" name="Straight Arrow Connector 69"/>
            <p:cNvCxnSpPr/>
            <p:nvPr/>
          </p:nvCxnSpPr>
          <p:spPr>
            <a:xfrm>
              <a:off x="4572000" y="1790640"/>
              <a:ext cx="311760" cy="20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8" name="Straight Arrow Connector 73"/>
            <p:cNvCxnSpPr/>
            <p:nvPr/>
          </p:nvCxnSpPr>
          <p:spPr>
            <a:xfrm flipH="1" flipV="1">
              <a:off x="4571640" y="1858680"/>
              <a:ext cx="311760" cy="20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9" name="Straight Arrow Connector 75"/>
            <p:cNvCxnSpPr/>
            <p:nvPr/>
          </p:nvCxnSpPr>
          <p:spPr>
            <a:xfrm>
              <a:off x="4259160" y="27460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0" name="Straight Arrow Connector 77"/>
            <p:cNvCxnSpPr/>
            <p:nvPr/>
          </p:nvCxnSpPr>
          <p:spPr>
            <a:xfrm flipH="1">
              <a:off x="4258800" y="2814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1" name="Straight Arrow Connector 83"/>
            <p:cNvCxnSpPr/>
            <p:nvPr/>
          </p:nvCxnSpPr>
          <p:spPr>
            <a:xfrm flipV="1">
              <a:off x="5881680" y="1790640"/>
              <a:ext cx="49896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2" name="Straight Arrow Connector 85"/>
            <p:cNvCxnSpPr/>
            <p:nvPr/>
          </p:nvCxnSpPr>
          <p:spPr>
            <a:xfrm flipH="1">
              <a:off x="6068880" y="1859040"/>
              <a:ext cx="311760" cy="20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3" name="Straight Arrow Connector 88"/>
            <p:cNvCxnSpPr/>
            <p:nvPr/>
          </p:nvCxnSpPr>
          <p:spPr>
            <a:xfrm flipH="1">
              <a:off x="4446360" y="2951280"/>
              <a:ext cx="31320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4" name="Straight Arrow Connector 90"/>
            <p:cNvCxnSpPr/>
            <p:nvPr/>
          </p:nvCxnSpPr>
          <p:spPr>
            <a:xfrm flipV="1">
              <a:off x="4508640" y="3087360"/>
              <a:ext cx="250920" cy="20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5" name="Straight Arrow Connector 94"/>
            <p:cNvCxnSpPr/>
            <p:nvPr/>
          </p:nvCxnSpPr>
          <p:spPr>
            <a:xfrm>
              <a:off x="6193080" y="3156120"/>
              <a:ext cx="187920" cy="20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6" name="Straight Arrow Connector 123"/>
            <p:cNvCxnSpPr/>
            <p:nvPr/>
          </p:nvCxnSpPr>
          <p:spPr>
            <a:xfrm flipH="1">
              <a:off x="4946400" y="3359160"/>
              <a:ext cx="373680" cy="13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7" name="Straight Arrow Connector 125"/>
            <p:cNvCxnSpPr/>
            <p:nvPr/>
          </p:nvCxnSpPr>
          <p:spPr>
            <a:xfrm flipV="1">
              <a:off x="5008680" y="3358800"/>
              <a:ext cx="373680" cy="14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8" name="Straight Arrow Connector 134"/>
            <p:cNvCxnSpPr/>
            <p:nvPr/>
          </p:nvCxnSpPr>
          <p:spPr>
            <a:xfrm flipH="1" flipV="1">
              <a:off x="6130800" y="3224160"/>
              <a:ext cx="24984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9" name="Straight Arrow Connector 136"/>
            <p:cNvCxnSpPr/>
            <p:nvPr/>
          </p:nvCxnSpPr>
          <p:spPr>
            <a:xfrm>
              <a:off x="5881680" y="3497400"/>
              <a:ext cx="437040" cy="129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00" name="Straight Arrow Connector 138"/>
            <p:cNvCxnSpPr/>
            <p:nvPr/>
          </p:nvCxnSpPr>
          <p:spPr>
            <a:xfrm flipH="1" flipV="1">
              <a:off x="5881320" y="3358800"/>
              <a:ext cx="498960" cy="14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01" name="Straight Arrow Connector 140"/>
            <p:cNvCxnSpPr/>
            <p:nvPr/>
          </p:nvCxnSpPr>
          <p:spPr>
            <a:xfrm>
              <a:off x="3198240" y="4246920"/>
              <a:ext cx="108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02" name="Straight Arrow Connector 142"/>
            <p:cNvCxnSpPr/>
            <p:nvPr/>
          </p:nvCxnSpPr>
          <p:spPr>
            <a:xfrm flipV="1">
              <a:off x="3260160" y="4246560"/>
              <a:ext cx="108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03" name="Straight Arrow Connector 144"/>
            <p:cNvCxnSpPr/>
            <p:nvPr/>
          </p:nvCxnSpPr>
          <p:spPr>
            <a:xfrm>
              <a:off x="7314840" y="4179600"/>
              <a:ext cx="1080" cy="47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04" name="Straight Arrow Connector 146"/>
            <p:cNvCxnSpPr/>
            <p:nvPr/>
          </p:nvCxnSpPr>
          <p:spPr>
            <a:xfrm flipV="1">
              <a:off x="7378560" y="4179240"/>
              <a:ext cx="1080" cy="47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305" name="Picture 92" descr="danube -header biodiversity"/>
          <p:cNvPicPr/>
          <p:nvPr/>
        </p:nvPicPr>
        <p:blipFill>
          <a:blip r:embed="rId1"/>
          <a:stretch/>
        </p:blipFill>
        <p:spPr>
          <a:xfrm>
            <a:off x="6756480" y="5850000"/>
            <a:ext cx="21207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07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8360" y="2401560"/>
            <a:ext cx="842472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nube River Research and Management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REAM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Research and monitor hydrodynamic and , sediment transport and ecological processes in the various reaches of the Danube Riv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Main driving forc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ctive project promo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pport by PA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pport by the Vienna reg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Benefits of the EUS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395280" y="1484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c9ae12"/>
                </a:solidFill>
                <a:uFillTx/>
                <a:latin typeface="Trebuchet MS"/>
              </a:rPr>
              <a:t>Benefit No 3</a:t>
            </a:r>
            <a:r>
              <a:rPr b="0" lang="de-DE" sz="2800" spc="-1" strike="noStrike">
                <a:solidFill>
                  <a:srgbClr val="c9ae12"/>
                </a:solidFill>
                <a:latin typeface="Trebuchet MS"/>
              </a:rPr>
              <a:t>: Need to align </a:t>
            </a:r>
            <a:r>
              <a:rPr b="0" lang="en-US" sz="2800" spc="-1" strike="noStrike">
                <a:solidFill>
                  <a:srgbClr val="c9ae12"/>
                </a:solidFill>
                <a:latin typeface="Trebuchet MS"/>
              </a:rPr>
              <a:t>funding sources is becoming more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9:27:29Z</dcterms:created>
  <dc:creator>Elise Blais</dc:creator>
  <dc:description/>
  <dc:language>en-US</dc:language>
  <cp:lastModifiedBy>hahn</cp:lastModifiedBy>
  <cp:lastPrinted>2012-10-12T10:29:06Z</cp:lastPrinted>
  <dcterms:modified xsi:type="dcterms:W3CDTF">2012-12-04T12:40:10Z</dcterms:modified>
  <cp:revision>1202</cp:revision>
  <dc:subject/>
  <dc:title>Slide 1</dc:title>
</cp:coreProperties>
</file>