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B2F6-C4D2-4B99-9279-BD40BD066468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Possible timing to be said or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B4E4-69CD-4E9C-9188-52221609D21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A9A6-7ED0-4AE0-920B-C11C59F19A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C88-38BA-4CC8-8D82-2243F5E0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C88-C94C-4F34-BD31-5B70B3B4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943-E263-4836-9075-BC8A7398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1A12-C2C5-425F-ACC2-936FC8BE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406-670B-476C-8BBC-3A584A0C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304-2C57-4AE6-B845-265DB6C8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5B8-AA7F-4A27-B7F4-C0B585E6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D48-B3A8-4C0E-B072-E5A14F27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48A-FEAA-4D8B-84D5-9A6F5580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FC6-0D4E-4B9D-B4ED-2D7EF415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59B-EF4C-41D1-BF95-640761F6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B01E-B9A1-4D1A-8DD5-D4F5D71D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32D9-4E47-4581-B6DD-DC1078339C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ld 6" descr="opener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Bild 5" descr="standard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914400" y="5024520"/>
            <a:ext cx="8121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327b"/>
                </a:solidFill>
                <a:latin typeface="Trebuchet MS"/>
              </a:rPr>
              <a:t>CENTRAL EUROPE 2014+: Status Programming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914400" y="432576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03c85"/>
                </a:solidFill>
                <a:latin typeface="Trebuchet MS"/>
              </a:rPr>
              <a:t>European Macro-Regional Strategy for the Danube Region - PAC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203c85"/>
                </a:solidFill>
                <a:latin typeface="Trebuchet MS"/>
              </a:rPr>
              <a:t>Vienna, 5 December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914400" y="582624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327b"/>
                </a:solidFill>
                <a:latin typeface="Trebuchet MS"/>
              </a:rPr>
              <a:t>Christiane Breznik - Managing Auth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95280" y="189000"/>
            <a:ext cx="54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rebuchet MS"/>
              </a:rPr>
              <a:t>The programm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rma 6"/>
          <p:cNvSpPr/>
          <p:nvPr/>
        </p:nvSpPr>
        <p:spPr>
          <a:xfrm rot="4396200">
            <a:off x="2293560" y="2452680"/>
            <a:ext cx="4275360" cy="2827440"/>
          </a:xfrm>
          <a:custGeom>
            <a:avLst/>
            <a:gdLst/>
            <a:ahLst/>
            <a:rect l="l" t="t" r="r" b="b"/>
            <a:pathLst>
              <a:path w="4275137" h="2827337">
                <a:moveTo>
                  <a:pt x="0" y="2827337"/>
                </a:moveTo>
                <a:lnTo>
                  <a:pt x="712523" y="942446"/>
                </a:lnTo>
                <a:lnTo>
                  <a:pt x="3388201" y="353417"/>
                </a:lnTo>
                <a:lnTo>
                  <a:pt x="3348381" y="0"/>
                </a:lnTo>
                <a:lnTo>
                  <a:pt x="4275137" y="442620"/>
                </a:lnTo>
                <a:lnTo>
                  <a:pt x="3479980" y="1167973"/>
                </a:lnTo>
                <a:lnTo>
                  <a:pt x="3440159" y="81455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1802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e 7"/>
          <p:cNvSpPr/>
          <p:nvPr/>
        </p:nvSpPr>
        <p:spPr>
          <a:xfrm>
            <a:off x="3710160" y="2612880"/>
            <a:ext cx="98280" cy="98640"/>
          </a:xfrm>
          <a:prstGeom prst="ellipse">
            <a:avLst/>
          </a:prstGeom>
          <a:solidFill>
            <a:srgbClr val="b2c1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e 8"/>
          <p:cNvSpPr/>
          <p:nvPr/>
        </p:nvSpPr>
        <p:spPr>
          <a:xfrm>
            <a:off x="4268880" y="3041640"/>
            <a:ext cx="98280" cy="98280"/>
          </a:xfrm>
          <a:prstGeom prst="ellipse">
            <a:avLst/>
          </a:prstGeom>
          <a:solidFill>
            <a:srgbClr val="b2c1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e 9"/>
          <p:cNvSpPr/>
          <p:nvPr/>
        </p:nvSpPr>
        <p:spPr>
          <a:xfrm>
            <a:off x="4770360" y="3543480"/>
            <a:ext cx="98640" cy="98280"/>
          </a:xfrm>
          <a:prstGeom prst="ellipse">
            <a:avLst/>
          </a:prstGeom>
          <a:solidFill>
            <a:srgbClr val="b2c1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igura a mano libera 11"/>
          <p:cNvSpPr/>
          <p:nvPr/>
        </p:nvSpPr>
        <p:spPr>
          <a:xfrm>
            <a:off x="3952800" y="2011320"/>
            <a:ext cx="3932280" cy="58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040" rIns="23040" tIns="23040" bIns="2304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rebuchet MS"/>
              </a:rPr>
              <a:t>Territorial analysis and stakeholders (challenges/needs/potent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igura a mano libera 12"/>
          <p:cNvSpPr/>
          <p:nvPr/>
        </p:nvSpPr>
        <p:spPr>
          <a:xfrm>
            <a:off x="1504800" y="3170160"/>
            <a:ext cx="2735280" cy="569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040" rIns="23040" tIns="23040" bIns="23040" anchor="ctr">
            <a:noAutofit/>
          </a:bodyPr>
          <a:p>
            <a:pPr algn="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rebuchet MS"/>
              </a:rPr>
              <a:t>Strategic choices (thematic concen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e 13"/>
          <p:cNvSpPr/>
          <p:nvPr/>
        </p:nvSpPr>
        <p:spPr>
          <a:xfrm>
            <a:off x="5133960" y="4095720"/>
            <a:ext cx="98280" cy="98280"/>
          </a:xfrm>
          <a:prstGeom prst="ellipse">
            <a:avLst/>
          </a:prstGeom>
          <a:solidFill>
            <a:srgbClr val="b2c1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igura a mano libera 14"/>
          <p:cNvSpPr/>
          <p:nvPr/>
        </p:nvSpPr>
        <p:spPr>
          <a:xfrm>
            <a:off x="5076720" y="2903400"/>
            <a:ext cx="3570480" cy="72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040" rIns="23040" tIns="23040" bIns="2304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rebuchet MS"/>
              </a:rPr>
              <a:t>Preparation of the OP 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Trebuchet MS"/>
              </a:rPr>
              <a:t>(Ex-ante/SEA; drafting of the 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igura a mano libera 15"/>
          <p:cNvSpPr/>
          <p:nvPr/>
        </p:nvSpPr>
        <p:spPr>
          <a:xfrm>
            <a:off x="1979640" y="4076640"/>
            <a:ext cx="3025800" cy="39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 algn="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rebuchet MS"/>
              </a:rPr>
              <a:t>Stakeholder‘s consul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igura a mano libera 16"/>
          <p:cNvSpPr/>
          <p:nvPr/>
        </p:nvSpPr>
        <p:spPr>
          <a:xfrm>
            <a:off x="5460840" y="5910120"/>
            <a:ext cx="2352960" cy="58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t">
            <a:noAutofit/>
          </a:bodyPr>
          <a:p>
            <a:pPr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rebuchet MS"/>
              </a:rPr>
              <a:t>OP approval;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Trebuchet MS"/>
              </a:rPr>
              <a:t>launch of call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llout 2 6"/>
          <p:cNvSpPr/>
          <p:nvPr/>
        </p:nvSpPr>
        <p:spPr>
          <a:xfrm flipH="1">
            <a:off x="395280" y="2354400"/>
            <a:ext cx="1728720" cy="527040"/>
          </a:xfrm>
          <a:prstGeom prst="borderCallout2">
            <a:avLst>
              <a:gd name="adj1" fmla="val 18750"/>
              <a:gd name="adj2" fmla="val -8333"/>
              <a:gd name="adj3" fmla="val 62601"/>
              <a:gd name="adj4" fmla="val -31495"/>
              <a:gd name="adj5" fmla="val 108185"/>
              <a:gd name="adj6" fmla="val -116124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Definition of cooperation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6"/>
          <p:cNvSpPr/>
          <p:nvPr/>
        </p:nvSpPr>
        <p:spPr>
          <a:xfrm>
            <a:off x="3664080" y="2593800"/>
            <a:ext cx="166680" cy="1447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7"/>
          <p:cNvSpPr/>
          <p:nvPr/>
        </p:nvSpPr>
        <p:spPr>
          <a:xfrm>
            <a:off x="4226040" y="3027240"/>
            <a:ext cx="166680" cy="1429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C:\Users\jtsfer\AppData\Local\Microsoft\Windows\Temporary Internet Files\Content.IE5\R890COKD\MC900389774[1].wmf"/>
          <p:cNvPicPr/>
          <p:nvPr/>
        </p:nvPicPr>
        <p:blipFill>
          <a:blip r:embed="rId1"/>
          <a:stretch/>
        </p:blipFill>
        <p:spPr>
          <a:xfrm>
            <a:off x="4387680" y="5803920"/>
            <a:ext cx="993960" cy="793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C:\Users\jtsfer\AppData\Local\Microsoft\Windows\Temporary Internet Files\Content.IE5\HB2JWXW9\MC900434665[1].wmf"/>
          <p:cNvPicPr/>
          <p:nvPr/>
        </p:nvPicPr>
        <p:blipFill>
          <a:blip r:embed="rId2"/>
          <a:stretch/>
        </p:blipFill>
        <p:spPr>
          <a:xfrm>
            <a:off x="8169120" y="1865160"/>
            <a:ext cx="706680" cy="65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C:\Users\jtsfer\AppData\Local\Microsoft\Windows\Temporary Internet Files\Content.IE5\R890COKD\MC900391212[1].wmf"/>
          <p:cNvPicPr/>
          <p:nvPr/>
        </p:nvPicPr>
        <p:blipFill>
          <a:blip r:embed="rId3"/>
          <a:stretch/>
        </p:blipFill>
        <p:spPr>
          <a:xfrm>
            <a:off x="754200" y="3265560"/>
            <a:ext cx="677880" cy="612720"/>
          </a:xfrm>
          <a:prstGeom prst="rect">
            <a:avLst/>
          </a:prstGeom>
          <a:ln w="0">
            <a:noFill/>
          </a:ln>
        </p:spPr>
      </p:pic>
      <p:sp>
        <p:nvSpPr>
          <p:cNvPr id="146" name="Figura a mano libera 10"/>
          <p:cNvSpPr/>
          <p:nvPr/>
        </p:nvSpPr>
        <p:spPr>
          <a:xfrm>
            <a:off x="108000" y="1657440"/>
            <a:ext cx="3216240" cy="426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040" rIns="23040" tIns="23040" bIns="23040" anchor="b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stablishment of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teering Group CE2014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e 9"/>
          <p:cNvSpPr/>
          <p:nvPr/>
        </p:nvSpPr>
        <p:spPr>
          <a:xfrm>
            <a:off x="5437080" y="4581360"/>
            <a:ext cx="98640" cy="98640"/>
          </a:xfrm>
          <a:prstGeom prst="ellipse">
            <a:avLst/>
          </a:prstGeom>
          <a:solidFill>
            <a:srgbClr val="b2c1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igura a mano libera 14"/>
          <p:cNvSpPr/>
          <p:nvPr/>
        </p:nvSpPr>
        <p:spPr>
          <a:xfrm>
            <a:off x="5796000" y="4221000"/>
            <a:ext cx="3987720" cy="362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040" rIns="23040" tIns="23040" bIns="2304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rebuchet MS"/>
              </a:rPr>
              <a:t>OP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7"/>
          <p:cNvSpPr/>
          <p:nvPr/>
        </p:nvSpPr>
        <p:spPr>
          <a:xfrm>
            <a:off x="4716360" y="3500280"/>
            <a:ext cx="166680" cy="1429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C:\Users\jtsfer\AppData\Local\Microsoft\Windows\Temporary Internet Files\Content.IE5\R890COKD\MC900391212[1].wmf"/>
          <p:cNvPicPr/>
          <p:nvPr/>
        </p:nvPicPr>
        <p:blipFill>
          <a:blip r:embed="rId4"/>
          <a:stretch/>
        </p:blipFill>
        <p:spPr>
          <a:xfrm>
            <a:off x="8286840" y="3608280"/>
            <a:ext cx="6778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3d69b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6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533520" y="134136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c85"/>
                </a:solidFill>
                <a:latin typeface="Trebuchet MS"/>
                <a:ea typeface="ＭＳ Ｐゴシック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533520" y="2060640"/>
            <a:ext cx="8153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95280" y="189000"/>
            <a:ext cx="54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b4e3"/>
                </a:solidFill>
                <a:latin typeface="Trebuchet MS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The programm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414360" y="2135160"/>
            <a:ext cx="833436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533520" y="1890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rebuchet MS"/>
              </a:rPr>
              <a:t>Contac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33520" y="175248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03c85"/>
                </a:solidFill>
                <a:latin typeface="Trebuchet MS"/>
                <a:ea typeface="ＭＳ Ｐゴシック"/>
              </a:rPr>
              <a:t>CENTRAL EUROP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533520" y="2590920"/>
            <a:ext cx="82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anaging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ity of Vi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ept. for EU-Strategy and Economic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chlesingerplatz 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-1080 Vien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hone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+43 1 4000 270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ail 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hristiane.breznik@wien.gv.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eb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ww.central2013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FB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ww.facebook.com/CentralEurope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13:18:26Z</dcterms:created>
  <dc:creator>jtsfer</dc:creator>
  <dc:description/>
  <dc:language>en-US</dc:language>
  <cp:lastModifiedBy>Luca Ferrarese</cp:lastModifiedBy>
  <dcterms:modified xsi:type="dcterms:W3CDTF">2012-12-04T09:22:20Z</dcterms:modified>
  <cp:revision>83</cp:revision>
  <dc:subject/>
  <dc:title>Slide 1</dc:title>
</cp:coreProperties>
</file>