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C973-9233-426B-AE26-8F24583B50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DCB8-436C-41B3-B862-4D4EB6EFF0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D015-D4A2-4D77-9115-EA85FCBB32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ighlighted target for 1 b: 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Development of efficient multimodal terminals at Danube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river ports and dry ports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 to connect inland waterways with rail and road transport by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ackground: No transnational approach in Danub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common strategy and plan for intermodal transport in Danube region and bey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investment plan for investors to mobilize the long-term financing needed in Danube reg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Multimodal nodes need to play a more significant role not only in terms of accessibility but as optimal places for concentrating logistic activities  reducing logistic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gal and institutional packag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view railway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commend appropriate and regionally institutional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model concession or other agreements for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rket research packag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arry out market research (demand and supply chain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demand forecasts, using transnational trade flow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Hold seminars, workshops and arrange study tou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a detailed intermodal development strategy and Action Plan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frastructure projec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dentify locations for establishing a network of intermodal terminals/ logistic centre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first phase investment projects, ensure projects are embedded in Danube reg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Establish Intermodal Development Fund to kick start implementation of proje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4270-01A4-4280-9E18-D87CAC982948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ighlighted target for 1 b: 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Development of efficient multimodal terminals at Danube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river ports and dry ports</a:t>
            </a: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 to connect inland waterways with rail and road transport by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ackground: No transnational approach in Danub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common strategy and plan for intermodal transport in Danube region and bey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 investment plan for investors to mobilize the long-term financing needed in Danube reg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Multimodal nodes need to play a more significant role not only in terms of accessibility but as optimal places for concentrating logistic activities  reducing logistic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gal and institutional package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view railway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commend appropriate and regionally institutional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model concession or other agreements for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rket research packag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arry out market research (demand and supply chain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demand forecasts, using transnational trade flow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Hold seminars, workshops and arrange study tou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a detailed intermodal development strategy and Action Plan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frastructure projec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dentify locations for establishing a network of intermodal terminals/ logistic centre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epare first phase investment projects, ensure projects are embedded in Danube reg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Establish Intermodal Development Fund to kick start implementation of proje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7BB4-21F4-427A-A7F4-54E9731062D4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82A-9355-4AAD-B260-9E1F2BBB2CBC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4699-F032-4C66-87CF-C2432A001FEA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973-6766-43A3-B422-17ABF62375B0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E1D6-C36F-4C4C-B47A-52C0464E93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E23-C9BA-43F9-BEA2-758246C22A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00A9-726D-4717-B98E-25274919FB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BBB3-0DA9-410A-BA4E-ABD0E8AB9D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654A-C01A-4495-851C-6B95B4A8FD65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312-8849-4E93-AA9C-E7EA3A721C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BAE0-E52F-458A-8F1C-7700258DC8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4598-A0BF-41D2-8317-D38256AC63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29680" y="4714560"/>
            <a:ext cx="6264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E4E7-3DDF-4ACC-A400-E128A67537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2202-ADBE-48E4-9AED-D0E7243208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F80-3A9D-4FB7-BF0E-628E98B705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B13-CC0A-456E-AA16-C6936D1AF6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5F6-25AA-4B6A-B146-B325216C13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6B94-9D47-446F-9A4B-1C9E6BB51387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7BB2-0428-4772-8284-CE526E4D68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FB87-3C0A-4E61-A788-2B17F0391D79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0A1-0032-4EA6-A5F0-D9958AA7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1AA-377D-486E-9754-8053F7C5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D00-AD54-45B2-855E-B085D12A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B9C-5B22-45A9-9D4B-269ED58E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5EE-8DE2-43BD-8211-0B8162D4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D51-9418-4628-A34F-4BAB841C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F0F-178C-464E-BC80-5123F46E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C12-6C6F-4527-992A-F8CFD2D7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CA2-305A-4A25-A5D2-4F3F12B4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29C-2D94-4CF9-9D18-09868CC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FF6-3C6B-4B7B-9671-2F5030C6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13C-1C92-4094-9EC3-C9B5605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281-847C-4ADE-812D-023C347B6C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vana.lazic@interact-eu.net" TargetMode="External"/><Relationship Id="rId2" Type="http://schemas.openxmlformats.org/officeDocument/2006/relationships/hyperlink" Target="mailto:katrin.stockhammer@interact-eu.net" TargetMode="External"/><Relationship Id="rId3" Type="http://schemas.openxmlformats.org/officeDocument/2006/relationships/hyperlink" Target="http://www.interact-eu.net/" TargetMode="External"/><Relationship Id="rId4" Type="http://schemas.openxmlformats.org/officeDocument/2006/relationships/hyperlink" Target="http://www.danube-region.eu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4" descr="Sample X.jpg"/>
          <p:cNvPicPr/>
          <p:nvPr/>
        </p:nvPicPr>
        <p:blipFill>
          <a:blip r:embed="rId1"/>
          <a:stretch/>
        </p:blipFill>
        <p:spPr>
          <a:xfrm>
            <a:off x="0" y="4089240"/>
            <a:ext cx="9144000" cy="2768760"/>
          </a:xfrm>
          <a:prstGeom prst="rect">
            <a:avLst/>
          </a:prstGeom>
          <a:ln w="0">
            <a:noFill/>
          </a:ln>
        </p:spPr>
      </p:pic>
      <p:pic>
        <p:nvPicPr>
          <p:cNvPr id="125" name="Grafik 3" descr=""/>
          <p:cNvPicPr/>
          <p:nvPr/>
        </p:nvPicPr>
        <p:blipFill>
          <a:blip r:embed="rId2"/>
          <a:stretch/>
        </p:blipFill>
        <p:spPr>
          <a:xfrm>
            <a:off x="5416560" y="46080"/>
            <a:ext cx="369252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3789000"/>
            <a:ext cx="8564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3</a:t>
            </a:r>
            <a:r>
              <a:rPr b="0" lang="en-US" sz="3600" spc="-1" strike="noStrike" baseline="30000">
                <a:solidFill>
                  <a:srgbClr val="191919"/>
                </a:solidFill>
                <a:latin typeface="Trebuchet MS"/>
                <a:ea typeface="ＭＳ Ｐゴシック"/>
              </a:rPr>
              <a:t>rd</a:t>
            </a:r>
            <a:r>
              <a:rPr b="0" lang="en-US" sz="36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Steering Group Meeting of PA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7" descr="swoosh2.jpg"/>
          <p:cNvPicPr/>
          <p:nvPr/>
        </p:nvPicPr>
        <p:blipFill>
          <a:blip r:embed="rId3"/>
          <a:stretch/>
        </p:blipFill>
        <p:spPr>
          <a:xfrm>
            <a:off x="3935520" y="1628640"/>
            <a:ext cx="5208480" cy="152640"/>
          </a:xfrm>
          <a:prstGeom prst="rect">
            <a:avLst/>
          </a:prstGeom>
          <a:ln w="0">
            <a:noFill/>
          </a:ln>
        </p:spPr>
      </p:pic>
      <p:sp>
        <p:nvSpPr>
          <p:cNvPr id="128" name="Titel 1"/>
          <p:cNvSpPr/>
          <p:nvPr/>
        </p:nvSpPr>
        <p:spPr>
          <a:xfrm>
            <a:off x="297000" y="2238480"/>
            <a:ext cx="866772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What did the Strategy do for us and what can we do for the Strate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platzhalter 3"/>
          <p:cNvSpPr/>
          <p:nvPr/>
        </p:nvSpPr>
        <p:spPr>
          <a:xfrm>
            <a:off x="2055960" y="5535720"/>
            <a:ext cx="6548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5 December 2012</a:t>
            </a:r>
            <a:r>
              <a:rPr b="0" lang="de-DE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|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Vi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2411280" y="49849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Ivana Lazic, INTERACT Point Vi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99840"/>
            <a:ext cx="8362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struc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two larg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ydraulic and environmental engineering laboratori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one in the upper/middle part of the Danube and one in the lower pa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Joint river engineering simulation tool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o be used by Danube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truction and operation of a boat with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iving shaf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the whole Danu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stablishme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existing and extended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ube River Research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1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D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18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39528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4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Strategy leads to common sectoral strategies and plans f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feld 2"/>
          <p:cNvSpPr/>
          <p:nvPr/>
        </p:nvSpPr>
        <p:spPr>
          <a:xfrm>
            <a:off x="395280" y="2565360"/>
            <a:ext cx="8640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The Danube Region Intermodal Strategy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DRIS Projec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develop intermodal development strategy; implementation of practical intermodal solutions that will service the logistics chain; contribute to institutional capacity building an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driving forc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Developed by the SG of PA 1b (and in cooperation with PA 1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2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DRIS Main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al and institutional packag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view railway re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commend appropriate and regionally institutional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model concession or other agreements for P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rket research pack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ry out market research (demand and supply chai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demand forecasts, using transnational trade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ld seminars, workshops and arrange study t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a detailed intermodal development strategy and Ac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frastructure projec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dentify locations for establishing a network of intermodal terminals/ logistic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pare first phase investment projects, ensure projects are embedded in Danube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stablish Intermodal Development Fund to kick start implementation of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2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395280" y="1484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5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Local initiatives are tackled at the transnat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2565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mpowering Young People - Connecting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Develop and implement a wide range of innovative projects between schools and external partners throughout the Danube reg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liament decision recognising the 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by PAC 9 (People and skills; Austria and Slov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3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feld 7"/>
          <p:cNvSpPr/>
          <p:nvPr/>
        </p:nvSpPr>
        <p:spPr>
          <a:xfrm>
            <a:off x="-3636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www.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mpoweringyoungpeopl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ae12"/>
                </a:solidFill>
                <a:latin typeface="Trebuchet MS"/>
              </a:rPr>
              <a:t>Empowering Young People - Connecting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rcRect l="20587" t="32173" r="20898" b="6238"/>
          <a:stretch/>
        </p:blipFill>
        <p:spPr>
          <a:xfrm>
            <a:off x="900000" y="1413000"/>
            <a:ext cx="777564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40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39528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6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People started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924360" y="2165040"/>
            <a:ext cx="46800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ube Finance Dial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A Series of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ialogues between private and public project promoters in the Danube Region and their potential financers (Vienna, Serbia, Romania.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lemented by PAC 10 (Vienna region and Slove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539640" y="2090880"/>
            <a:ext cx="30243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95280" y="1684440"/>
            <a:ext cx="82803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Many projects are still in the conception/prepara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lex funding landscapes (e.g., partially different rules for ERDF and IPA and ENPI programm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mall projects face difficulties finding an appropriate funding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Lack of technical project prepar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-financing and co-financing has become increasingly difficult due to the economic cri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48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Financing of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684360" y="5591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also: Analysis of needs for financial instruments in the EU Strategy for the Danube Region (EUSD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etis GmbH, 20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395280" y="16844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eting the objectives will strongly depend on the design of the EU funding schemes for the 2014 – 2020 programming perio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53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Financing of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Diagram 10" descr=""/>
          <p:cNvPicPr/>
          <p:nvPr/>
        </p:nvPicPr>
        <p:blipFill>
          <a:blip r:embed="rId2"/>
          <a:stretch/>
        </p:blipFill>
        <p:spPr>
          <a:xfrm>
            <a:off x="560520" y="2786040"/>
            <a:ext cx="8412120" cy="3816360"/>
          </a:xfrm>
          <a:prstGeom prst="rect">
            <a:avLst/>
          </a:prstGeom>
          <a:ln w="0">
            <a:noFill/>
          </a:ln>
        </p:spPr>
      </p:pic>
      <p:sp>
        <p:nvSpPr>
          <p:cNvPr id="355" name="Freeform 11"/>
          <p:cNvSpPr/>
          <p:nvPr/>
        </p:nvSpPr>
        <p:spPr>
          <a:xfrm>
            <a:off x="3203640" y="4076640"/>
            <a:ext cx="2160360" cy="936720"/>
          </a:xfrm>
          <a:custGeom>
            <a:avLst/>
            <a:gdLst/>
            <a:ahLst/>
            <a:rect l="l" t="t" r="r" b="b"/>
            <a:pathLst>
              <a:path w="3018971" h="1349828">
                <a:moveTo>
                  <a:pt x="0" y="1349828"/>
                </a:moveTo>
                <a:cubicBezTo>
                  <a:pt x="459619" y="1084942"/>
                  <a:pt x="919238" y="820056"/>
                  <a:pt x="1422400" y="595085"/>
                </a:cubicBezTo>
                <a:cubicBezTo>
                  <a:pt x="1925562" y="370114"/>
                  <a:pt x="3018971" y="0"/>
                  <a:pt x="3018971" y="0"/>
                </a:cubicBezTo>
                <a:lnTo>
                  <a:pt x="3018971" y="0"/>
                </a:lnTo>
              </a:path>
            </a:pathLst>
          </a:custGeom>
          <a:noFill/>
          <a:ln w="10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"/>
          <p:cNvSpPr/>
          <p:nvPr/>
        </p:nvSpPr>
        <p:spPr>
          <a:xfrm>
            <a:off x="5289480" y="5373720"/>
            <a:ext cx="30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Programming 2014+ ETC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468360" y="1657440"/>
            <a:ext cx="8280360" cy="54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litical commitment needs to be translated in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ctions need to be coordinated and carried out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tially unsatisfactory participation in PA Steer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volving policy makers and stakeholders in all countries as well as the operational level – wait and see at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e coordination between Priority areas is nee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ss-sectoral cooperations between PACs has started but needs to be further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volving European Commission D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inking to regional ERDF program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60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Communication and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468360" y="1860480"/>
            <a:ext cx="8280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e need to be able to measure and communicate the success of the EUSDR in the mid-term. Do target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hat processes have been started (cooperation of policy makers across borders, new cooperation projects, clustering of existing projects/ initiatives, reinforcement of existing networks, etc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 to estimate the value of this in relation to the baseline (ie without EUSDR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64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Challenges – Measuring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3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are benefits of the EUSD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are some concrete proje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What challenges are still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feld 1"/>
          <p:cNvSpPr/>
          <p:nvPr/>
        </p:nvSpPr>
        <p:spPr>
          <a:xfrm>
            <a:off x="378000" y="1890720"/>
            <a:ext cx="83707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major funding sources in the EUSD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do you get involved in programming of 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do you approach regional programmes and other funding sourc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can we best learn from other Strategy? – Joint EUSBSR – EUSDR even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quarter of 2013. Key topic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68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71" name="Rechteck 7"/>
          <p:cNvSpPr/>
          <p:nvPr/>
        </p:nvSpPr>
        <p:spPr>
          <a:xfrm>
            <a:off x="168120" y="950760"/>
            <a:ext cx="86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2014+ Territorial Cooperation program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299880" y="2276640"/>
            <a:ext cx="85694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strengthening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research, technological development and innovation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enhancing access to, and use and quality of, information and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communication technologies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enhancing the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competitiveness of small and medium-sized enterprises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, the agricultural sector (for the EAFRD) and the fisheries and aquaculture sector (for the EMFF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supporting the shift towards a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low-carbon economy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in all sector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200" spc="-1" strike="noStrike">
                <a:solidFill>
                  <a:srgbClr val="c9ae12"/>
                </a:solidFill>
                <a:latin typeface="Trebuchet MS"/>
              </a:rPr>
              <a:t>climate change adaptation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, risk prevention and managemen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feld 1"/>
          <p:cNvSpPr/>
          <p:nvPr/>
        </p:nvSpPr>
        <p:spPr>
          <a:xfrm>
            <a:off x="299880" y="1557360"/>
            <a:ext cx="815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9ae12"/>
                </a:solidFill>
                <a:latin typeface="Trebuchet MS"/>
              </a:rPr>
              <a:t>Proposed Thematic Objectives: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7"/>
          <p:cNvSpPr/>
          <p:nvPr/>
        </p:nvSpPr>
        <p:spPr>
          <a:xfrm>
            <a:off x="168120" y="35100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2014+ Territorial Cooperation programmes?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314280" y="1916280"/>
            <a:ext cx="856944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9ae12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protecting the environment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resource efficiency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sustainable transport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removing bottlenecks in key network infrastructu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employment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 and suppor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labour</a:t>
            </a:r>
            <a:r>
              <a:rPr b="0" lang="en-GB" sz="21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mobility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promot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social</a:t>
            </a:r>
            <a:r>
              <a:rPr b="0" lang="en-GB" sz="21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inclusion</a:t>
            </a:r>
            <a:r>
              <a:rPr b="0" lang="en-GB" sz="21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combating povert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investing in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education, skills and lifelong learning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enhancing </a:t>
            </a:r>
            <a:r>
              <a:rPr b="0" lang="en-GB" sz="2100" spc="-1" strike="noStrike">
                <a:solidFill>
                  <a:srgbClr val="c9ae12"/>
                </a:solidFill>
                <a:latin typeface="Trebuchet MS"/>
              </a:rPr>
              <a:t>institutional capacity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and an efficient public administr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80" name="Rechteck 7"/>
          <p:cNvSpPr/>
          <p:nvPr/>
        </p:nvSpPr>
        <p:spPr>
          <a:xfrm>
            <a:off x="187200" y="96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2014+ Territorial Cooperation programm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324000" y="1989000"/>
            <a:ext cx="8569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matic objectives will be </a:t>
            </a: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chosen by each ETC programme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ossibly</a:t>
            </a:r>
            <a:r>
              <a:rPr b="0" lang="en-GB" sz="2400" spc="-1" strike="noStrike">
                <a:solidFill>
                  <a:srgbClr val="e50083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some ETC programmes will be able to fund PA 10 themes,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ther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t is </a:t>
            </a: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up to the programmes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o define more clearly what the thematic objectives mean in their ar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9ae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ae12"/>
                </a:solidFill>
                <a:latin typeface="Trebuchet MS"/>
              </a:rPr>
              <a:t>One programme covering the Danube macro-reg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 Will it fund themes relevant to PA 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y </a:t>
            </a:r>
            <a:r>
              <a:rPr b="0" lang="en-US" sz="2400" spc="-1" strike="noStrike">
                <a:solidFill>
                  <a:srgbClr val="c9ae12"/>
                </a:solidFill>
                <a:latin typeface="Trebuchet MS"/>
              </a:rPr>
              <a:t>more flexibility to spend money outside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ross-border and transnational programme a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324000" y="1403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9ae12"/>
                </a:solidFill>
                <a:latin typeface="Trebuchet MS"/>
              </a:rPr>
              <a:t>Consider</a:t>
            </a: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feld 3"/>
          <p:cNvSpPr/>
          <p:nvPr/>
        </p:nvSpPr>
        <p:spPr>
          <a:xfrm>
            <a:off x="353880" y="1366920"/>
            <a:ext cx="832356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Don‘t hesitate to contact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1"/>
              </a:rPr>
              <a:t>ivana.lazic@interact-eu.net</a:t>
            </a:r>
            <a:r>
              <a:rPr b="0" lang="de-DE" sz="20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2"/>
              </a:rPr>
              <a:t>katrin.stockhammer@interact-eu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for further information or vis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3"/>
              </a:rPr>
              <a:t>www.interact-eu.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 u="sng">
                <a:solidFill>
                  <a:srgbClr val="0000ff"/>
                </a:solidFill>
                <a:uFillTx/>
                <a:latin typeface="Trebuchet MS"/>
                <a:ea typeface="ＭＳ Ｐゴシック"/>
                <a:hlinkClick r:id="rId4"/>
              </a:rPr>
              <a:t>www.danube-region.eu</a:t>
            </a:r>
            <a:r>
              <a:rPr b="0" lang="de-DE" sz="22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191919"/>
                </a:solidFill>
                <a:latin typeface="Trebuchet MS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Grafik 3" descr=""/>
          <p:cNvPicPr/>
          <p:nvPr/>
        </p:nvPicPr>
        <p:blipFill>
          <a:blip r:embed="rId5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86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6"/>
          <a:stretch/>
        </p:blipFill>
        <p:spPr>
          <a:xfrm>
            <a:off x="-49320" y="4059360"/>
            <a:ext cx="8852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66640" y="12283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feld 7"/>
          <p:cNvSpPr/>
          <p:nvPr/>
        </p:nvSpPr>
        <p:spPr>
          <a:xfrm>
            <a:off x="0" y="65055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6948360" y="1916280"/>
            <a:ext cx="1897200" cy="4076640"/>
          </a:xfrm>
          <a:custGeom>
            <a:avLst/>
            <a:gdLst>
              <a:gd name="textAreaLeft" fmla="*/ 92520 w 1897200"/>
              <a:gd name="textAreaRight" fmla="*/ 1804680 w 1897200"/>
              <a:gd name="textAreaTop" fmla="*/ 92520 h 4076640"/>
              <a:gd name="textAreaBottom" fmla="*/ 3984120 h 4076640"/>
            </a:gdLst>
            <a:ahLst/>
            <a:rect l="textAreaLeft" t="textAreaTop" r="textAreaRight" b="textAreaBottom"/>
            <a:pathLst>
              <a:path w="21600" h="46409">
                <a:moveTo>
                  <a:pt x="3600" y="0"/>
                </a:moveTo>
                <a:arcTo wR="3600" hR="3600" stAng="16200000" swAng="-5400000"/>
                <a:lnTo>
                  <a:pt x="0" y="42809"/>
                </a:lnTo>
                <a:arcTo wR="3600" hR="3600" stAng="10800000" swAng="-5400000"/>
                <a:lnTo>
                  <a:pt x="18000" y="464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sible financing sourc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324000" y="1771560"/>
            <a:ext cx="6516360" cy="20163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licy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324000" y="3371760"/>
            <a:ext cx="7272360" cy="17845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perational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4"/>
          <p:cNvSpPr/>
          <p:nvPr/>
        </p:nvSpPr>
        <p:spPr>
          <a:xfrm>
            <a:off x="4702320" y="2854440"/>
            <a:ext cx="1771560" cy="39852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ational Contac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3"/>
          <p:cNvSpPr/>
          <p:nvPr/>
        </p:nvSpPr>
        <p:spPr>
          <a:xfrm>
            <a:off x="2700360" y="2354400"/>
            <a:ext cx="1925640" cy="4251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G Region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3419640" y="3643200"/>
            <a:ext cx="2815920" cy="433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e5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iority area coordinators (PAC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2700360" y="1916280"/>
            <a:ext cx="3773520" cy="36648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uropean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4702320" y="2354400"/>
            <a:ext cx="1771560" cy="4251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igh leve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1577880" y="4468680"/>
            <a:ext cx="2778120" cy="2653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ject promo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7199280" y="2800440"/>
            <a:ext cx="1355760" cy="77616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hesion 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tructural Funds (Obj. 1-2-3 programm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3780000" y="2898720"/>
            <a:ext cx="239400" cy="644760"/>
          </a:xfrm>
          <a:prstGeom prst="upDownArrow">
            <a:avLst>
              <a:gd name="adj1" fmla="val 50000"/>
              <a:gd name="adj2" fmla="val 40685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5472000" y="3281400"/>
            <a:ext cx="223920" cy="355680"/>
          </a:xfrm>
          <a:prstGeom prst="upDownArrow">
            <a:avLst>
              <a:gd name="adj1" fmla="val 50000"/>
              <a:gd name="adj2" fmla="val 27540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960480" y="3573360"/>
            <a:ext cx="166860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e5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eering  group for each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7197840" y="5116680"/>
            <a:ext cx="1361880" cy="61596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ternational Financing institu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 rot="10800000">
            <a:off x="1794960" y="411336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2035080" y="414324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 rot="5400000">
            <a:off x="2955600" y="3441600"/>
            <a:ext cx="145800" cy="692280"/>
          </a:xfrm>
          <a:prstGeom prst="upDownArrow">
            <a:avLst>
              <a:gd name="adj1" fmla="val 50000"/>
              <a:gd name="adj2" fmla="val 40425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7169040" y="3693960"/>
            <a:ext cx="1363680" cy="44928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P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EN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7211880" y="4264200"/>
            <a:ext cx="136224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ectoral EU and national funding (environmant, education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7164360" y="5821200"/>
            <a:ext cx="1409760" cy="4874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rivate bank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on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590640" y="411948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3832200" y="4149720"/>
            <a:ext cx="236520" cy="271440"/>
          </a:xfrm>
          <a:prstGeom prst="downArrow">
            <a:avLst>
              <a:gd name="adj1" fmla="val 50000"/>
              <a:gd name="adj2" fmla="val 3107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G</a:t>
            </a:r>
            <a:r>
              <a:rPr b="0" lang="en-US" sz="2000" spc="-1" strike="noStrike">
                <a:solidFill>
                  <a:srgbClr val="c9ae12"/>
                </a:solidFill>
                <a:latin typeface="Trebuchet MS"/>
              </a:rPr>
              <a:t>overnance model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468360" y="1657440"/>
            <a:ext cx="82803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re an empowered lobby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ct as policy facilitators and fill gaps that cannot be filled by programmes, financing institutions, policy maker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ct as Danube Region knowledge manage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s act as messengers of the EUS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7"/>
          <p:cNvSpPr/>
          <p:nvPr/>
        </p:nvSpPr>
        <p:spPr>
          <a:xfrm>
            <a:off x="17928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9ae12"/>
                </a:solidFill>
                <a:latin typeface="Trebuchet MS"/>
              </a:rPr>
              <a:t>The role of the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395280" y="148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1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Clustering of knowle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989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A 1A: “To improve comprehensive waterway management of the Danube and its tributar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 projects or project ideas, 2 received Letter of 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of Danube Waterway Administrations - (NEWADA and NEWADA du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9280" indent="-2746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ports on measures to create a reliable waterway infrastructure presented a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A 1A Steering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9280" indent="-274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claration signed by Ministers of the Danube riparian states (except for Hungary and Ukraine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7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2472840"/>
            <a:ext cx="84247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“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Sturgeon 2020 Strateg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PA 6 Target: “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ecure viable populations of Danube sturgeon species and other indigenous fish species by 2020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rebuchet MS"/>
              </a:rPr>
              <a:t>Danube Sturgeon Task Forc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” (DSTF) established in Jan 2012 - expert group with representatives of international organisations and NGOs (ICPDR, IAD, WWF), sturgeon experts and relevant stakeholders within PA 6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7"/>
          <p:cNvSpPr/>
          <p:nvPr/>
        </p:nvSpPr>
        <p:spPr>
          <a:xfrm>
            <a:off x="32400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395280" y="148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2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Creating / Accelerating cross-sectoral </a:t>
            </a:r>
            <a:r>
              <a:rPr b="0" lang="en-US" sz="2800" spc="-1" strike="noStrike">
                <a:solidFill>
                  <a:srgbClr val="c9ae12"/>
                </a:solidFill>
                <a:latin typeface="Trebuchet MS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5816520"/>
            <a:ext cx="914400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1390680" y="1177920"/>
            <a:ext cx="5446440" cy="4179960"/>
            <a:chOff x="1390680" y="1177920"/>
            <a:chExt cx="5446440" cy="4179960"/>
          </a:xfrm>
        </p:grpSpPr>
        <p:sp>
          <p:nvSpPr>
            <p:cNvPr id="182" name="Text Box 8"/>
            <p:cNvSpPr/>
            <p:nvPr/>
          </p:nvSpPr>
          <p:spPr>
            <a:xfrm>
              <a:off x="3859200" y="1249200"/>
              <a:ext cx="363600" cy="4108680"/>
            </a:xfrm>
            <a:prstGeom prst="rect">
              <a:avLst/>
            </a:prstGeom>
            <a:gradFill rotWithShape="0">
              <a:gsLst>
                <a:gs pos="0">
                  <a:srgbClr val="b2a1c7"/>
                </a:gs>
                <a:gs pos="50000">
                  <a:srgbClr val="e5dfec"/>
                </a:gs>
                <a:gs pos="100000">
                  <a:srgbClr val="b2a1c7"/>
                </a:gs>
              </a:gsLst>
              <a:lin ang="18900000"/>
            </a:gradFill>
            <a:ln w="12600">
              <a:solidFill>
                <a:srgbClr val="b2a1c7"/>
              </a:solidFill>
              <a:miter/>
            </a:ln>
            <a:effectLst>
              <a:outerShdw dist="17819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1f497d"/>
                  </a:solidFill>
                  <a:latin typeface="Times New Roman"/>
                </a:rPr>
                <a:t>STUR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1f497d"/>
                  </a:solidFill>
                  <a:latin typeface="Times New Roman"/>
                </a:rPr>
                <a:t>20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1390680" y="1374840"/>
              <a:ext cx="1063440" cy="5032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1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 </a:t>
              </a: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Navig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1390680" y="2265840"/>
              <a:ext cx="1063440" cy="5230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Energ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1390680" y="3065040"/>
              <a:ext cx="1063440" cy="5778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Touris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1390680" y="3903120"/>
              <a:ext cx="1063440" cy="4870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Water qua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1390680" y="4648320"/>
              <a:ext cx="1063440" cy="6138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Environmental ris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689080" y="1249200"/>
              <a:ext cx="1148040" cy="49356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Biodivers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689080" y="2016000"/>
              <a:ext cx="1148040" cy="49356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Researc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6"/>
            <p:cNvSpPr/>
            <p:nvPr/>
          </p:nvSpPr>
          <p:spPr>
            <a:xfrm>
              <a:off x="5689080" y="2698920"/>
              <a:ext cx="1148040" cy="5652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Competitivenes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5689080" y="4864680"/>
              <a:ext cx="1148040" cy="4932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Secu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5689080" y="3439800"/>
              <a:ext cx="1148040" cy="46296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eople and skil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5689080" y="4105080"/>
              <a:ext cx="1148040" cy="6138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PA 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1f497d"/>
                  </a:solidFill>
                  <a:latin typeface="Times New Roman"/>
                </a:rPr>
                <a:t>Institutional capac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AutoShape 20"/>
            <p:cNvCxnSpPr/>
            <p:nvPr/>
          </p:nvCxnSpPr>
          <p:spPr>
            <a:xfrm>
              <a:off x="2509200" y="167076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5" name="Text Box 21"/>
            <p:cNvSpPr/>
            <p:nvPr/>
          </p:nvSpPr>
          <p:spPr>
            <a:xfrm>
              <a:off x="2587320" y="1374840"/>
              <a:ext cx="117612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Habitat alte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22"/>
            <p:cNvCxnSpPr/>
            <p:nvPr/>
          </p:nvCxnSpPr>
          <p:spPr>
            <a:xfrm>
              <a:off x="2509200" y="25092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7" name="AutoShape 23"/>
            <p:cNvCxnSpPr/>
            <p:nvPr/>
          </p:nvCxnSpPr>
          <p:spPr>
            <a:xfrm>
              <a:off x="2509200" y="32814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8" name="AutoShape 24"/>
            <p:cNvCxnSpPr/>
            <p:nvPr/>
          </p:nvCxnSpPr>
          <p:spPr>
            <a:xfrm>
              <a:off x="2541960" y="416916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9" name="AutoShape 25"/>
            <p:cNvCxnSpPr/>
            <p:nvPr/>
          </p:nvCxnSpPr>
          <p:spPr>
            <a:xfrm>
              <a:off x="2509200" y="50796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0" name="AutoShape 26"/>
            <p:cNvCxnSpPr/>
            <p:nvPr/>
          </p:nvCxnSpPr>
          <p:spPr>
            <a:xfrm>
              <a:off x="4298760" y="151668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1" name="AutoShape 27"/>
            <p:cNvCxnSpPr/>
            <p:nvPr/>
          </p:nvCxnSpPr>
          <p:spPr>
            <a:xfrm>
              <a:off x="4298760" y="232920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2" name="AutoShape 28"/>
            <p:cNvCxnSpPr/>
            <p:nvPr/>
          </p:nvCxnSpPr>
          <p:spPr>
            <a:xfrm>
              <a:off x="4298760" y="3064320"/>
              <a:ext cx="1317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3" name="AutoShape 29"/>
            <p:cNvCxnSpPr/>
            <p:nvPr/>
          </p:nvCxnSpPr>
          <p:spPr>
            <a:xfrm>
              <a:off x="4340160" y="379008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4" name="AutoShape 30"/>
            <p:cNvCxnSpPr/>
            <p:nvPr/>
          </p:nvCxnSpPr>
          <p:spPr>
            <a:xfrm>
              <a:off x="4298760" y="443988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5" name="AutoShape 31"/>
            <p:cNvCxnSpPr/>
            <p:nvPr/>
          </p:nvCxnSpPr>
          <p:spPr>
            <a:xfrm>
              <a:off x="4340160" y="5080320"/>
              <a:ext cx="131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6" name="Text Box 32"/>
            <p:cNvSpPr/>
            <p:nvPr/>
          </p:nvSpPr>
          <p:spPr>
            <a:xfrm>
              <a:off x="4340160" y="4779720"/>
              <a:ext cx="13168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Caviar black marke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2587320" y="3849480"/>
              <a:ext cx="123876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Food web + habita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4"/>
            <p:cNvSpPr/>
            <p:nvPr/>
          </p:nvSpPr>
          <p:spPr>
            <a:xfrm>
              <a:off x="2587320" y="2898000"/>
              <a:ext cx="1117800" cy="26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Eco-touris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5"/>
            <p:cNvSpPr/>
            <p:nvPr/>
          </p:nvSpPr>
          <p:spPr>
            <a:xfrm>
              <a:off x="2509200" y="2133360"/>
              <a:ext cx="13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Continuity disru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2509200" y="4719240"/>
              <a:ext cx="131688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Flood prot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7"/>
            <p:cNvSpPr/>
            <p:nvPr/>
          </p:nvSpPr>
          <p:spPr>
            <a:xfrm>
              <a:off x="4298760" y="1177920"/>
              <a:ext cx="13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Genetic po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8"/>
            <p:cNvSpPr/>
            <p:nvPr/>
          </p:nvSpPr>
          <p:spPr>
            <a:xfrm>
              <a:off x="4248360" y="1959480"/>
              <a:ext cx="140904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Key habitats + speci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4298760" y="2788920"/>
              <a:ext cx="13168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Small eco-busine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0"/>
            <p:cNvSpPr/>
            <p:nvPr/>
          </p:nvSpPr>
          <p:spPr>
            <a:xfrm>
              <a:off x="4340160" y="3439800"/>
              <a:ext cx="13168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Ecological edu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1"/>
            <p:cNvSpPr/>
            <p:nvPr/>
          </p:nvSpPr>
          <p:spPr>
            <a:xfrm>
              <a:off x="4298760" y="4174200"/>
              <a:ext cx="131688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100" spc="-1" strike="noStrike">
                  <a:solidFill>
                    <a:srgbClr val="1f497d"/>
                  </a:solidFill>
                  <a:latin typeface="Times New Roman"/>
                </a:rPr>
                <a:t>Law enforc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42"/>
          <p:cNvSpPr/>
          <p:nvPr/>
        </p:nvSpPr>
        <p:spPr>
          <a:xfrm>
            <a:off x="5319720" y="5548680"/>
            <a:ext cx="336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1f497d"/>
                </a:solidFill>
                <a:latin typeface="Arial"/>
              </a:rPr>
              <a:t>Reference: DSTF (Dr. Cristina Sandu, Romani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595080" y="771480"/>
            <a:ext cx="560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Interrelation of Sturgeon Strategy 2020 with EUS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4" descr="danube -header biodiversity"/>
          <p:cNvPicPr/>
          <p:nvPr/>
        </p:nvPicPr>
        <p:blipFill>
          <a:blip r:embed="rId1"/>
          <a:stretch/>
        </p:blipFill>
        <p:spPr>
          <a:xfrm>
            <a:off x="6756480" y="5850000"/>
            <a:ext cx="2120760" cy="866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5"/>
          <p:cNvSpPr/>
          <p:nvPr/>
        </p:nvSpPr>
        <p:spPr>
          <a:xfrm>
            <a:off x="0" y="0"/>
            <a:ext cx="914400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tegrativ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5816520"/>
            <a:ext cx="914400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anube Sturgeon Task Force – Overall organization (IAD propos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828720" y="3292560"/>
            <a:ext cx="4118040" cy="95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6380280" y="3292560"/>
            <a:ext cx="1873080" cy="887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6"/>
          <p:cNvGrpSpPr/>
          <p:nvPr/>
        </p:nvGrpSpPr>
        <p:grpSpPr>
          <a:xfrm>
            <a:off x="828720" y="3359160"/>
            <a:ext cx="7548480" cy="1043280"/>
            <a:chOff x="828720" y="3359160"/>
            <a:chExt cx="7548480" cy="1043280"/>
          </a:xfrm>
        </p:grpSpPr>
        <p:grpSp>
          <p:nvGrpSpPr>
            <p:cNvPr id="225" name="Group 84"/>
            <p:cNvGrpSpPr/>
            <p:nvPr/>
          </p:nvGrpSpPr>
          <p:grpSpPr>
            <a:xfrm>
              <a:off x="828720" y="3359160"/>
              <a:ext cx="4117320" cy="1043280"/>
              <a:chOff x="828720" y="3359160"/>
              <a:chExt cx="4117320" cy="1043280"/>
            </a:xfrm>
          </p:grpSpPr>
          <p:sp>
            <p:nvSpPr>
              <p:cNvPr id="226" name="TextBox 15"/>
              <p:cNvSpPr/>
              <p:nvPr/>
            </p:nvSpPr>
            <p:spPr>
              <a:xfrm>
                <a:off x="82872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D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1203120" y="3973680"/>
                <a:ext cx="37296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A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17"/>
              <p:cNvSpPr/>
              <p:nvPr/>
            </p:nvSpPr>
            <p:spPr>
              <a:xfrm>
                <a:off x="1576080" y="3973680"/>
                <a:ext cx="312480" cy="4287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S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18"/>
              <p:cNvSpPr/>
              <p:nvPr/>
            </p:nvSpPr>
            <p:spPr>
              <a:xfrm>
                <a:off x="270000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H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9"/>
              <p:cNvSpPr/>
              <p:nvPr/>
            </p:nvSpPr>
            <p:spPr>
              <a:xfrm>
                <a:off x="3074760" y="3973680"/>
                <a:ext cx="36648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20"/>
              <p:cNvSpPr/>
              <p:nvPr/>
            </p:nvSpPr>
            <p:spPr>
              <a:xfrm>
                <a:off x="3447720" y="3973680"/>
                <a:ext cx="36792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Box 21"/>
              <p:cNvSpPr/>
              <p:nvPr/>
            </p:nvSpPr>
            <p:spPr>
              <a:xfrm>
                <a:off x="382248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22"/>
              <p:cNvSpPr/>
              <p:nvPr/>
            </p:nvSpPr>
            <p:spPr>
              <a:xfrm>
                <a:off x="4571640" y="397368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U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23"/>
              <p:cNvSpPr/>
              <p:nvPr/>
            </p:nvSpPr>
            <p:spPr>
              <a:xfrm>
                <a:off x="2327040" y="3973680"/>
                <a:ext cx="37296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H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24"/>
              <p:cNvSpPr/>
              <p:nvPr/>
            </p:nvSpPr>
            <p:spPr>
              <a:xfrm>
                <a:off x="1888920" y="3973680"/>
                <a:ext cx="437760" cy="2613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i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25"/>
              <p:cNvSpPr/>
              <p:nvPr/>
            </p:nvSpPr>
            <p:spPr>
              <a:xfrm>
                <a:off x="4196880" y="3973680"/>
                <a:ext cx="374400" cy="42876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M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6"/>
              <p:cNvSpPr/>
              <p:nvPr/>
            </p:nvSpPr>
            <p:spPr>
              <a:xfrm>
                <a:off x="828720" y="3359160"/>
                <a:ext cx="411732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Managerial lev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(environment and agriculture ministries, water management units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42"/>
            <p:cNvSpPr/>
            <p:nvPr/>
          </p:nvSpPr>
          <p:spPr>
            <a:xfrm>
              <a:off x="6505560" y="335916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anagerial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3"/>
            <p:cNvSpPr/>
            <p:nvPr/>
          </p:nvSpPr>
          <p:spPr>
            <a:xfrm>
              <a:off x="6380280" y="3905280"/>
              <a:ext cx="37440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U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4"/>
            <p:cNvSpPr/>
            <p:nvPr/>
          </p:nvSpPr>
          <p:spPr>
            <a:xfrm>
              <a:off x="6755040" y="3905280"/>
              <a:ext cx="37440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R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5"/>
            <p:cNvSpPr/>
            <p:nvPr/>
          </p:nvSpPr>
          <p:spPr>
            <a:xfrm>
              <a:off x="7128000" y="3905280"/>
              <a:ext cx="37620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B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6"/>
            <p:cNvSpPr/>
            <p:nvPr/>
          </p:nvSpPr>
          <p:spPr>
            <a:xfrm>
              <a:off x="7504200" y="3905280"/>
              <a:ext cx="36504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T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47"/>
            <p:cNvSpPr/>
            <p:nvPr/>
          </p:nvSpPr>
          <p:spPr>
            <a:xfrm>
              <a:off x="7878960" y="3905280"/>
              <a:ext cx="372960" cy="26136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R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50"/>
          <p:cNvSpPr/>
          <p:nvPr/>
        </p:nvSpPr>
        <p:spPr>
          <a:xfrm>
            <a:off x="6380280" y="4656240"/>
            <a:ext cx="1873080" cy="955440"/>
          </a:xfrm>
          <a:prstGeom prst="rect">
            <a:avLst/>
          </a:prstGeom>
          <a:solidFill>
            <a:srgbClr val="99ff99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80"/>
          <p:cNvCxnSpPr/>
          <p:nvPr/>
        </p:nvCxnSpPr>
        <p:spPr>
          <a:xfrm>
            <a:off x="6256440" y="2882520"/>
            <a:ext cx="37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Straight Arrow Connector 81"/>
          <p:cNvCxnSpPr/>
          <p:nvPr/>
        </p:nvCxnSpPr>
        <p:spPr>
          <a:xfrm flipH="1">
            <a:off x="6256080" y="2950920"/>
            <a:ext cx="373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47" name="Group 91"/>
          <p:cNvGrpSpPr/>
          <p:nvPr/>
        </p:nvGrpSpPr>
        <p:grpSpPr>
          <a:xfrm>
            <a:off x="828720" y="836640"/>
            <a:ext cx="7610400" cy="4999680"/>
            <a:chOff x="828720" y="836640"/>
            <a:chExt cx="7610400" cy="4999680"/>
          </a:xfrm>
        </p:grpSpPr>
        <p:grpSp>
          <p:nvGrpSpPr>
            <p:cNvPr id="248" name="Group 79"/>
            <p:cNvGrpSpPr/>
            <p:nvPr/>
          </p:nvGrpSpPr>
          <p:grpSpPr>
            <a:xfrm>
              <a:off x="828720" y="1586880"/>
              <a:ext cx="3743280" cy="1072440"/>
              <a:chOff x="828720" y="1586880"/>
              <a:chExt cx="3743280" cy="107244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828720" y="1586880"/>
                <a:ext cx="3743280" cy="95472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9"/>
              <p:cNvSpPr/>
              <p:nvPr/>
            </p:nvSpPr>
            <p:spPr>
              <a:xfrm>
                <a:off x="1827000" y="2063160"/>
                <a:ext cx="998280" cy="4287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UN (e.g. FAO, UNDP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9"/>
              <p:cNvSpPr/>
              <p:nvPr/>
            </p:nvSpPr>
            <p:spPr>
              <a:xfrm>
                <a:off x="2887560" y="2063160"/>
                <a:ext cx="934920" cy="5961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National Governme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9"/>
              <p:cNvSpPr/>
              <p:nvPr/>
            </p:nvSpPr>
            <p:spPr>
              <a:xfrm>
                <a:off x="3948120" y="2063160"/>
                <a:ext cx="560160" cy="4287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ICPD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10"/>
              <p:cNvSpPr/>
              <p:nvPr/>
            </p:nvSpPr>
            <p:spPr>
              <a:xfrm>
                <a:off x="890280" y="2063160"/>
                <a:ext cx="873000" cy="5961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European Commis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12"/>
              <p:cNvSpPr/>
              <p:nvPr/>
            </p:nvSpPr>
            <p:spPr>
              <a:xfrm>
                <a:off x="1639800" y="1654920"/>
                <a:ext cx="218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olitical leve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Box 27"/>
            <p:cNvSpPr/>
            <p:nvPr/>
          </p:nvSpPr>
          <p:spPr>
            <a:xfrm>
              <a:off x="4759200" y="2063880"/>
              <a:ext cx="1433520" cy="115956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DST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as interface and pivotal point for DRB sturgeon conserv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9"/>
            <p:cNvSpPr/>
            <p:nvPr/>
          </p:nvSpPr>
          <p:spPr>
            <a:xfrm>
              <a:off x="2949480" y="2610000"/>
              <a:ext cx="1247760" cy="7635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International NGOs (e.g. WSCS, WWF, IAD, IUCN, DEF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2"/>
            <p:cNvSpPr/>
            <p:nvPr/>
          </p:nvSpPr>
          <p:spPr>
            <a:xfrm>
              <a:off x="2201760" y="836640"/>
              <a:ext cx="2244600" cy="5461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nube River Bas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34"/>
            <p:cNvSpPr/>
            <p:nvPr/>
          </p:nvSpPr>
          <p:spPr>
            <a:xfrm>
              <a:off x="6007320" y="904680"/>
              <a:ext cx="0" cy="470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5"/>
            <p:cNvSpPr/>
            <p:nvPr/>
          </p:nvSpPr>
          <p:spPr>
            <a:xfrm>
              <a:off x="6567480" y="836640"/>
              <a:ext cx="1496880" cy="5461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lack S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82"/>
            <p:cNvGrpSpPr/>
            <p:nvPr/>
          </p:nvGrpSpPr>
          <p:grpSpPr>
            <a:xfrm>
              <a:off x="6255360" y="1654560"/>
              <a:ext cx="2183760" cy="1108800"/>
              <a:chOff x="6255360" y="1654560"/>
              <a:chExt cx="2183760" cy="1108800"/>
            </a:xfrm>
          </p:grpSpPr>
          <p:sp>
            <p:nvSpPr>
              <p:cNvPr id="261" name="Rectangle 36"/>
              <p:cNvSpPr/>
              <p:nvPr/>
            </p:nvSpPr>
            <p:spPr>
              <a:xfrm>
                <a:off x="6380640" y="1654560"/>
                <a:ext cx="1933200" cy="95400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37"/>
              <p:cNvSpPr/>
              <p:nvPr/>
            </p:nvSpPr>
            <p:spPr>
              <a:xfrm>
                <a:off x="6380640" y="1995840"/>
                <a:ext cx="873000" cy="7635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lack Sea Commission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DABL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Box 9"/>
              <p:cNvSpPr/>
              <p:nvPr/>
            </p:nvSpPr>
            <p:spPr>
              <a:xfrm>
                <a:off x="7378920" y="2167200"/>
                <a:ext cx="936360" cy="5961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National Governmen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39"/>
              <p:cNvSpPr/>
              <p:nvPr/>
            </p:nvSpPr>
            <p:spPr>
              <a:xfrm>
                <a:off x="6255360" y="1654560"/>
                <a:ext cx="2183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olitical leve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Box 40"/>
            <p:cNvSpPr/>
            <p:nvPr/>
          </p:nvSpPr>
          <p:spPr>
            <a:xfrm>
              <a:off x="6755040" y="2814840"/>
              <a:ext cx="1433520" cy="428760"/>
            </a:xfrm>
            <a:prstGeom prst="rect">
              <a:avLst/>
            </a:pr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lack Sea Sturgeon T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89"/>
            <p:cNvGrpSpPr/>
            <p:nvPr/>
          </p:nvGrpSpPr>
          <p:grpSpPr>
            <a:xfrm>
              <a:off x="828720" y="4588560"/>
              <a:ext cx="7423560" cy="1247760"/>
              <a:chOff x="828720" y="4588560"/>
              <a:chExt cx="7423560" cy="1247760"/>
            </a:xfrm>
          </p:grpSpPr>
          <p:sp>
            <p:nvSpPr>
              <p:cNvPr id="267" name="TextBox 51"/>
              <p:cNvSpPr/>
              <p:nvPr/>
            </p:nvSpPr>
            <p:spPr>
              <a:xfrm>
                <a:off x="6318720" y="4722840"/>
                <a:ext cx="187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ecutive lev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52"/>
              <p:cNvSpPr/>
              <p:nvPr/>
            </p:nvSpPr>
            <p:spPr>
              <a:xfrm>
                <a:off x="6380640" y="533880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U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53"/>
              <p:cNvSpPr/>
              <p:nvPr/>
            </p:nvSpPr>
            <p:spPr>
              <a:xfrm>
                <a:off x="6755400" y="5338800"/>
                <a:ext cx="37296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54"/>
              <p:cNvSpPr/>
              <p:nvPr/>
            </p:nvSpPr>
            <p:spPr>
              <a:xfrm>
                <a:off x="7128360" y="5338800"/>
                <a:ext cx="37620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B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55"/>
              <p:cNvSpPr/>
              <p:nvPr/>
            </p:nvSpPr>
            <p:spPr>
              <a:xfrm>
                <a:off x="7503120" y="5338800"/>
                <a:ext cx="37440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T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56"/>
              <p:cNvSpPr/>
              <p:nvPr/>
            </p:nvSpPr>
            <p:spPr>
              <a:xfrm>
                <a:off x="7885800" y="5338800"/>
                <a:ext cx="366480" cy="26136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R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Group 87"/>
              <p:cNvGrpSpPr/>
              <p:nvPr/>
            </p:nvGrpSpPr>
            <p:grpSpPr>
              <a:xfrm>
                <a:off x="828720" y="4588560"/>
                <a:ext cx="4117680" cy="1247760"/>
                <a:chOff x="828720" y="4588560"/>
                <a:chExt cx="4117680" cy="1247760"/>
              </a:xfrm>
            </p:grpSpPr>
            <p:sp>
              <p:nvSpPr>
                <p:cNvPr id="274" name="Rectangle 29"/>
                <p:cNvSpPr/>
                <p:nvPr/>
              </p:nvSpPr>
              <p:spPr>
                <a:xfrm>
                  <a:off x="828720" y="4588560"/>
                  <a:ext cx="4117680" cy="10904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TextBox 31"/>
                <p:cNvSpPr/>
                <p:nvPr/>
              </p:nvSpPr>
              <p:spPr>
                <a:xfrm>
                  <a:off x="828720" y="4588560"/>
                  <a:ext cx="3992400" cy="80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Executive level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(sturgeon experts, researchers, national NGOs, local communities, fishery companies, hatcheries)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Box 57"/>
                <p:cNvSpPr/>
                <p:nvPr/>
              </p:nvSpPr>
              <p:spPr>
                <a:xfrm>
                  <a:off x="82872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E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TextBox 58"/>
                <p:cNvSpPr/>
                <p:nvPr/>
              </p:nvSpPr>
              <p:spPr>
                <a:xfrm>
                  <a:off x="1203120" y="5407560"/>
                  <a:ext cx="37296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A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Box 59"/>
                <p:cNvSpPr/>
                <p:nvPr/>
              </p:nvSpPr>
              <p:spPr>
                <a:xfrm>
                  <a:off x="157644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S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60"/>
                <p:cNvSpPr/>
                <p:nvPr/>
              </p:nvSpPr>
              <p:spPr>
                <a:xfrm>
                  <a:off x="1952640" y="5407560"/>
                  <a:ext cx="374400" cy="42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BiH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TextBox 61"/>
                <p:cNvSpPr/>
                <p:nvPr/>
              </p:nvSpPr>
              <p:spPr>
                <a:xfrm>
                  <a:off x="2327040" y="5407560"/>
                  <a:ext cx="37296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H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TextBox 62"/>
                <p:cNvSpPr/>
                <p:nvPr/>
              </p:nvSpPr>
              <p:spPr>
                <a:xfrm>
                  <a:off x="270036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HU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TextBox 63"/>
                <p:cNvSpPr/>
                <p:nvPr/>
              </p:nvSpPr>
              <p:spPr>
                <a:xfrm>
                  <a:off x="3074760" y="5407560"/>
                  <a:ext cx="37296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R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TextBox 64"/>
                <p:cNvSpPr/>
                <p:nvPr/>
              </p:nvSpPr>
              <p:spPr>
                <a:xfrm>
                  <a:off x="344808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RO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TextBox 65"/>
                <p:cNvSpPr/>
                <p:nvPr/>
              </p:nvSpPr>
              <p:spPr>
                <a:xfrm>
                  <a:off x="382248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BG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TextBox 66"/>
                <p:cNvSpPr/>
                <p:nvPr/>
              </p:nvSpPr>
              <p:spPr>
                <a:xfrm>
                  <a:off x="4197240" y="5407560"/>
                  <a:ext cx="372960" cy="42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MD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TextBox 67"/>
                <p:cNvSpPr/>
                <p:nvPr/>
              </p:nvSpPr>
              <p:spPr>
                <a:xfrm>
                  <a:off x="4572000" y="5407560"/>
                  <a:ext cx="374400" cy="261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afda7"/>
                    </a:gs>
                    <a:gs pos="100000">
                      <a:srgbClr val="f5ffe6"/>
                    </a:gs>
                  </a:gsLst>
                  <a:lin ang="16200000"/>
                </a:gradFill>
                <a:ln w="9360">
                  <a:solidFill>
                    <a:srgbClr val="98b954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U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87" name="Straight Arrow Connector 69"/>
            <p:cNvCxnSpPr/>
            <p:nvPr/>
          </p:nvCxnSpPr>
          <p:spPr>
            <a:xfrm>
              <a:off x="4572000" y="1790640"/>
              <a:ext cx="31176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73"/>
            <p:cNvCxnSpPr/>
            <p:nvPr/>
          </p:nvCxnSpPr>
          <p:spPr>
            <a:xfrm flipH="1" flipV="1">
              <a:off x="4571640" y="1858680"/>
              <a:ext cx="31176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9" name="Straight Arrow Connector 75"/>
            <p:cNvCxnSpPr/>
            <p:nvPr/>
          </p:nvCxnSpPr>
          <p:spPr>
            <a:xfrm>
              <a:off x="4259160" y="27460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0" name="Straight Arrow Connector 77"/>
            <p:cNvCxnSpPr/>
            <p:nvPr/>
          </p:nvCxnSpPr>
          <p:spPr>
            <a:xfrm flipH="1">
              <a:off x="4258800" y="2814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1" name="Straight Arrow Connector 83"/>
            <p:cNvCxnSpPr/>
            <p:nvPr/>
          </p:nvCxnSpPr>
          <p:spPr>
            <a:xfrm flipV="1">
              <a:off x="5881680" y="1790640"/>
              <a:ext cx="49896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2" name="Straight Arrow Connector 85"/>
            <p:cNvCxnSpPr/>
            <p:nvPr/>
          </p:nvCxnSpPr>
          <p:spPr>
            <a:xfrm flipH="1">
              <a:off x="6068880" y="1859040"/>
              <a:ext cx="31176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3" name="Straight Arrow Connector 88"/>
            <p:cNvCxnSpPr/>
            <p:nvPr/>
          </p:nvCxnSpPr>
          <p:spPr>
            <a:xfrm flipH="1">
              <a:off x="4446360" y="2951280"/>
              <a:ext cx="31320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4" name="Straight Arrow Connector 90"/>
            <p:cNvCxnSpPr/>
            <p:nvPr/>
          </p:nvCxnSpPr>
          <p:spPr>
            <a:xfrm flipV="1">
              <a:off x="4508640" y="3087360"/>
              <a:ext cx="250920" cy="20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5" name="Straight Arrow Connector 94"/>
            <p:cNvCxnSpPr/>
            <p:nvPr/>
          </p:nvCxnSpPr>
          <p:spPr>
            <a:xfrm>
              <a:off x="6193080" y="3156120"/>
              <a:ext cx="187920" cy="20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6" name="Straight Arrow Connector 123"/>
            <p:cNvCxnSpPr/>
            <p:nvPr/>
          </p:nvCxnSpPr>
          <p:spPr>
            <a:xfrm flipH="1">
              <a:off x="4946400" y="3359160"/>
              <a:ext cx="373680" cy="13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7" name="Straight Arrow Connector 125"/>
            <p:cNvCxnSpPr/>
            <p:nvPr/>
          </p:nvCxnSpPr>
          <p:spPr>
            <a:xfrm flipV="1">
              <a:off x="5008680" y="3358800"/>
              <a:ext cx="373680" cy="14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8" name="Straight Arrow Connector 134"/>
            <p:cNvCxnSpPr/>
            <p:nvPr/>
          </p:nvCxnSpPr>
          <p:spPr>
            <a:xfrm flipH="1" flipV="1">
              <a:off x="6130800" y="3224160"/>
              <a:ext cx="2498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9" name="Straight Arrow Connector 136"/>
            <p:cNvCxnSpPr/>
            <p:nvPr/>
          </p:nvCxnSpPr>
          <p:spPr>
            <a:xfrm>
              <a:off x="5881680" y="3497400"/>
              <a:ext cx="437040" cy="129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0" name="Straight Arrow Connector 138"/>
            <p:cNvCxnSpPr/>
            <p:nvPr/>
          </p:nvCxnSpPr>
          <p:spPr>
            <a:xfrm flipH="1" flipV="1">
              <a:off x="5881320" y="3358800"/>
              <a:ext cx="498960" cy="14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1" name="Straight Arrow Connector 140"/>
            <p:cNvCxnSpPr/>
            <p:nvPr/>
          </p:nvCxnSpPr>
          <p:spPr>
            <a:xfrm>
              <a:off x="3198240" y="4246920"/>
              <a:ext cx="108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2" name="Straight Arrow Connector 142"/>
            <p:cNvCxnSpPr/>
            <p:nvPr/>
          </p:nvCxnSpPr>
          <p:spPr>
            <a:xfrm flipV="1">
              <a:off x="3260160" y="4246560"/>
              <a:ext cx="108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3" name="Straight Arrow Connector 144"/>
            <p:cNvCxnSpPr/>
            <p:nvPr/>
          </p:nvCxnSpPr>
          <p:spPr>
            <a:xfrm>
              <a:off x="7314840" y="4179600"/>
              <a:ext cx="108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04" name="Straight Arrow Connector 146"/>
            <p:cNvCxnSpPr/>
            <p:nvPr/>
          </p:nvCxnSpPr>
          <p:spPr>
            <a:xfrm flipV="1">
              <a:off x="7378560" y="4179240"/>
              <a:ext cx="108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305" name="Picture 92" descr="danube -header biodiversity"/>
          <p:cNvPicPr/>
          <p:nvPr/>
        </p:nvPicPr>
        <p:blipFill>
          <a:blip r:embed="rId1"/>
          <a:stretch/>
        </p:blipFill>
        <p:spPr>
          <a:xfrm>
            <a:off x="6756480" y="5850000"/>
            <a:ext cx="21207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307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2401560"/>
            <a:ext cx="84247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ube River Research and Manage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REA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Research and monitor hydrodynamic and , sediment transport and ecological processes in the various reaches of the Danube Ri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ain driving forc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ve project promo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by PA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by the Vienna reg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  <a:ea typeface="Arial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  <a:ea typeface="Arial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ck 7"/>
          <p:cNvSpPr/>
          <p:nvPr/>
        </p:nvSpPr>
        <p:spPr>
          <a:xfrm>
            <a:off x="250920" y="9414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ae12"/>
                </a:solidFill>
                <a:latin typeface="Trebuchet MS"/>
              </a:rPr>
              <a:t>Benefits of the EUS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395280" y="1484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c9ae12"/>
                </a:solidFill>
                <a:uFillTx/>
                <a:latin typeface="Trebuchet MS"/>
              </a:rPr>
              <a:t>Benefit No 3</a:t>
            </a:r>
            <a:r>
              <a:rPr b="0" lang="de-DE" sz="2800" spc="-1" strike="noStrike">
                <a:solidFill>
                  <a:srgbClr val="c9ae12"/>
                </a:solidFill>
                <a:latin typeface="Trebuchet MS"/>
              </a:rPr>
              <a:t>: Need to align </a:t>
            </a:r>
            <a:r>
              <a:rPr b="0" lang="en-US" sz="2800" spc="-1" strike="noStrike">
                <a:solidFill>
                  <a:srgbClr val="c9ae12"/>
                </a:solidFill>
                <a:latin typeface="Trebuchet MS"/>
              </a:rPr>
              <a:t>funding sources is becoming more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9:27:29Z</dcterms:created>
  <dc:creator>Elise Blais</dc:creator>
  <dc:description/>
  <dc:language>en-US</dc:language>
  <cp:lastModifiedBy>hahn</cp:lastModifiedBy>
  <cp:lastPrinted>2012-10-12T10:29:06Z</cp:lastPrinted>
  <dcterms:modified xsi:type="dcterms:W3CDTF">2012-12-04T12:40:10Z</dcterms:modified>
  <cp:revision>1202</cp:revision>
  <dc:subject/>
  <dc:title>Slide 1</dc:title>
</cp:coreProperties>
</file>