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D36B-A8CB-45A3-BF6A-B9678E8FBEEE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Possible timing to be said or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9E2B-A8B3-4544-99DF-851C66164B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B8F0-B0AB-4E64-8623-45D48B2053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178-3211-4A48-A6D6-120FA870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7AA-F176-48BA-9D70-1C7B055D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5F9-8F51-4984-A3DE-D1B2CFFD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484-6421-4FDE-8E1D-6F12CDA8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7DD-D5B9-41E9-9406-512459F5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634-1474-49E9-9C65-0D210D1C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CC8-C325-452C-803A-64F1C0D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4F7-F09A-42BE-A10B-4484A9E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CB8-6A13-4CD0-AB06-5343C3DA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766-5B34-409C-8FC5-900E95A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6EC-991E-4E06-97A5-3C1B118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94A-DB33-4E33-BC0F-3F1A1311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2A6-ECF2-46B5-A59F-E64B677751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6" descr="opener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5" descr="standar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914400" y="5024520"/>
            <a:ext cx="8121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d327b"/>
                </a:solidFill>
                <a:latin typeface="Trebuchet MS"/>
              </a:rPr>
              <a:t>CENTRAL EUROPE 2014+: Status Programming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914400" y="432576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03c85"/>
                </a:solidFill>
                <a:latin typeface="Trebuchet MS"/>
              </a:rPr>
              <a:t>European Macro-Regional Strategy for the Danube Region - PAC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203c85"/>
                </a:solidFill>
                <a:latin typeface="Trebuchet MS"/>
              </a:rPr>
              <a:t>Vienna, 5 December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14400" y="582624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27b"/>
                </a:solidFill>
                <a:latin typeface="Trebuchet MS"/>
              </a:rPr>
              <a:t>Christiane Breznik - Managing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5280" y="189000"/>
            <a:ext cx="54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rebuchet MS"/>
              </a:rPr>
              <a:t>The pro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rma 6"/>
          <p:cNvSpPr/>
          <p:nvPr/>
        </p:nvSpPr>
        <p:spPr>
          <a:xfrm rot="4396200">
            <a:off x="2293560" y="2452680"/>
            <a:ext cx="4275360" cy="2827440"/>
          </a:xfrm>
          <a:custGeom>
            <a:avLst/>
            <a:gdLst/>
            <a:ahLst/>
            <a:rect l="l" t="t" r="r" b="b"/>
            <a:pathLst>
              <a:path w="4275137" h="2827337">
                <a:moveTo>
                  <a:pt x="0" y="2827337"/>
                </a:moveTo>
                <a:lnTo>
                  <a:pt x="712523" y="942446"/>
                </a:lnTo>
                <a:lnTo>
                  <a:pt x="3388201" y="353417"/>
                </a:lnTo>
                <a:lnTo>
                  <a:pt x="3348381" y="0"/>
                </a:lnTo>
                <a:lnTo>
                  <a:pt x="4275137" y="442620"/>
                </a:lnTo>
                <a:lnTo>
                  <a:pt x="3479980" y="1167973"/>
                </a:lnTo>
                <a:lnTo>
                  <a:pt x="3440159" y="814556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1802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e 7"/>
          <p:cNvSpPr/>
          <p:nvPr/>
        </p:nvSpPr>
        <p:spPr>
          <a:xfrm>
            <a:off x="3710160" y="2612880"/>
            <a:ext cx="98280" cy="9864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e 8"/>
          <p:cNvSpPr/>
          <p:nvPr/>
        </p:nvSpPr>
        <p:spPr>
          <a:xfrm>
            <a:off x="4268880" y="3041640"/>
            <a:ext cx="98280" cy="9828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e 9"/>
          <p:cNvSpPr/>
          <p:nvPr/>
        </p:nvSpPr>
        <p:spPr>
          <a:xfrm>
            <a:off x="4770360" y="3543480"/>
            <a:ext cx="98640" cy="9828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igura a mano libera 11"/>
          <p:cNvSpPr/>
          <p:nvPr/>
        </p:nvSpPr>
        <p:spPr>
          <a:xfrm>
            <a:off x="3952800" y="2011320"/>
            <a:ext cx="3932280" cy="58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Territorial analysis and stakeholders (challenges/needs/potent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igura a mano libera 12"/>
          <p:cNvSpPr/>
          <p:nvPr/>
        </p:nvSpPr>
        <p:spPr>
          <a:xfrm>
            <a:off x="1504800" y="3170160"/>
            <a:ext cx="2735280" cy="5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Strategic choices (thematic concen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e 13"/>
          <p:cNvSpPr/>
          <p:nvPr/>
        </p:nvSpPr>
        <p:spPr>
          <a:xfrm>
            <a:off x="5133960" y="4095720"/>
            <a:ext cx="98280" cy="9828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igura a mano libera 14"/>
          <p:cNvSpPr/>
          <p:nvPr/>
        </p:nvSpPr>
        <p:spPr>
          <a:xfrm>
            <a:off x="5076720" y="2903400"/>
            <a:ext cx="3570480" cy="72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Preparation of the OP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(Ex-ante/SEA; drafting of the 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igura a mano libera 15"/>
          <p:cNvSpPr/>
          <p:nvPr/>
        </p:nvSpPr>
        <p:spPr>
          <a:xfrm>
            <a:off x="1979640" y="4076640"/>
            <a:ext cx="3025800" cy="398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 algn="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Stakeholder‘s consul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igura a mano libera 16"/>
          <p:cNvSpPr/>
          <p:nvPr/>
        </p:nvSpPr>
        <p:spPr>
          <a:xfrm>
            <a:off x="5460840" y="5910120"/>
            <a:ext cx="2352960" cy="58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t">
            <a:no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OP approval;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launch of cal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llout 2 6"/>
          <p:cNvSpPr/>
          <p:nvPr/>
        </p:nvSpPr>
        <p:spPr>
          <a:xfrm flipH="1">
            <a:off x="395280" y="2354400"/>
            <a:ext cx="1728720" cy="527040"/>
          </a:xfrm>
          <a:prstGeom prst="borderCallout2">
            <a:avLst>
              <a:gd name="adj1" fmla="val 18750"/>
              <a:gd name="adj2" fmla="val -8333"/>
              <a:gd name="adj3" fmla="val 62601"/>
              <a:gd name="adj4" fmla="val -31495"/>
              <a:gd name="adj5" fmla="val 108185"/>
              <a:gd name="adj6" fmla="val -11612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rebuchet MS"/>
              </a:rPr>
              <a:t>Definition of cooperation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3664080" y="2593800"/>
            <a:ext cx="166680" cy="1447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7"/>
          <p:cNvSpPr/>
          <p:nvPr/>
        </p:nvSpPr>
        <p:spPr>
          <a:xfrm>
            <a:off x="4226040" y="3027240"/>
            <a:ext cx="166680" cy="1429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:\Users\jtsfer\AppData\Local\Microsoft\Windows\Temporary Internet Files\Content.IE5\R890COKD\MC900389774[1].wmf"/>
          <p:cNvPicPr/>
          <p:nvPr/>
        </p:nvPicPr>
        <p:blipFill>
          <a:blip r:embed="rId1"/>
          <a:stretch/>
        </p:blipFill>
        <p:spPr>
          <a:xfrm>
            <a:off x="4387680" y="5803920"/>
            <a:ext cx="993960" cy="793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jtsfer\AppData\Local\Microsoft\Windows\Temporary Internet Files\Content.IE5\HB2JWXW9\MC900434665[1].wmf"/>
          <p:cNvPicPr/>
          <p:nvPr/>
        </p:nvPicPr>
        <p:blipFill>
          <a:blip r:embed="rId2"/>
          <a:stretch/>
        </p:blipFill>
        <p:spPr>
          <a:xfrm>
            <a:off x="8169120" y="1865160"/>
            <a:ext cx="706680" cy="65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jtsfer\AppData\Local\Microsoft\Windows\Temporary Internet Files\Content.IE5\R890COKD\MC900391212[1].wmf"/>
          <p:cNvPicPr/>
          <p:nvPr/>
        </p:nvPicPr>
        <p:blipFill>
          <a:blip r:embed="rId3"/>
          <a:stretch/>
        </p:blipFill>
        <p:spPr>
          <a:xfrm>
            <a:off x="754200" y="3265560"/>
            <a:ext cx="677880" cy="612720"/>
          </a:xfrm>
          <a:prstGeom prst="rect">
            <a:avLst/>
          </a:prstGeom>
          <a:ln w="0">
            <a:noFill/>
          </a:ln>
        </p:spPr>
      </p:pic>
      <p:sp>
        <p:nvSpPr>
          <p:cNvPr id="146" name="Figura a mano libera 10"/>
          <p:cNvSpPr/>
          <p:nvPr/>
        </p:nvSpPr>
        <p:spPr>
          <a:xfrm>
            <a:off x="108000" y="1657440"/>
            <a:ext cx="3216240" cy="426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b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stablishment of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teering Group CE2014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9"/>
          <p:cNvSpPr/>
          <p:nvPr/>
        </p:nvSpPr>
        <p:spPr>
          <a:xfrm>
            <a:off x="5437080" y="4581360"/>
            <a:ext cx="98640" cy="98640"/>
          </a:xfrm>
          <a:prstGeom prst="ellipse">
            <a:avLst/>
          </a:prstGeom>
          <a:solidFill>
            <a:srgbClr val="b2c1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gura a mano libera 14"/>
          <p:cNvSpPr/>
          <p:nvPr/>
        </p:nvSpPr>
        <p:spPr>
          <a:xfrm>
            <a:off x="5796000" y="4221000"/>
            <a:ext cx="3987720" cy="362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rebuchet MS"/>
              </a:rPr>
              <a:t>OP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7"/>
          <p:cNvSpPr/>
          <p:nvPr/>
        </p:nvSpPr>
        <p:spPr>
          <a:xfrm>
            <a:off x="4716360" y="3500280"/>
            <a:ext cx="166680" cy="1429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C:\Users\jtsfer\AppData\Local\Microsoft\Windows\Temporary Internet Files\Content.IE5\R890COKD\MC900391212[1].wmf"/>
          <p:cNvPicPr/>
          <p:nvPr/>
        </p:nvPicPr>
        <p:blipFill>
          <a:blip r:embed="rId4"/>
          <a:stretch/>
        </p:blipFill>
        <p:spPr>
          <a:xfrm>
            <a:off x="8286840" y="3608280"/>
            <a:ext cx="6778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3d69b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33520" y="134136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c85"/>
                </a:solidFill>
                <a:latin typeface="Trebuchet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33520" y="2060640"/>
            <a:ext cx="8153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95280" y="189000"/>
            <a:ext cx="54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Trebuchet MS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he pro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414360" y="2135160"/>
            <a:ext cx="833436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1890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rebuchet MS"/>
              </a:rPr>
              <a:t>Conta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33520" y="17524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03c85"/>
                </a:solidFill>
                <a:latin typeface="Trebuchet MS"/>
                <a:ea typeface="ＭＳ Ｐゴシック"/>
              </a:rPr>
              <a:t>CENTRAL EUROP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2590920"/>
            <a:ext cx="82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naging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ity of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pt. for EU-Strategy and Economic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chlesingerplatz 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-1080 Vien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hone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+43 1 4000 27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il 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hristiane.breznik@wien.gv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eb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central2013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FB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facebook.com/CentralEurope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3:18:26Z</dcterms:created>
  <dc:creator>jtsfer</dc:creator>
  <dc:description/>
  <dc:language>en-US</dc:language>
  <cp:lastModifiedBy>Luca Ferrarese</cp:lastModifiedBy>
  <dcterms:modified xsi:type="dcterms:W3CDTF">2012-12-04T09:22:20Z</dcterms:modified>
  <cp:revision>83</cp:revision>
  <dc:subject/>
  <dc:title>Slide 1</dc:title>
</cp:coreProperties>
</file>